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90159F5-55B3-4863-B98D-46FDF158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D2B7FCB-774F-4B51-AF73-F0494A7706B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performance based software that we created at UNT. Using active learning component, catalog searching went up to a 38% success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F80EF3-EA91-4D04-B61E-723E8F5EA33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F71473A-C326-450F-9F91-718A387BC14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Kuhlthau (and her daughters) built on the ISP by adding a guided inquiry design framework that invites educators to join the process by guiding and encouraging inqui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hlthau, C.C., Maniotes, L.K. &amp; Caspari, A. K. (2012). Guided inquiry design: A framework for inquiry in your school. Santa Barbara, CA: Libraries Unlimited/ABC-CL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F87A451-E34A-4CF0-85B1-B2B5A06A6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3936960" y="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11/20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508D921-CD02-453F-94A6-DE4D79D63DB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40E33B6-0FA8-4C04-B977-8A656E4A50B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671EEA2-E8E7-45F6-809A-112857D74EE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5730E3F-F740-4903-B1E7-1629388E907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5924BE4-D343-4460-B89D-3A8A136F395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7470824-FD44-417C-B073-12D728E2D3D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BED20DF-346A-463B-93F0-F154BBF9F02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35E1DAF-672D-47A9-B20B-1A0BE4AFB2D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7E2-D837-4993-ABC0-7E1B7643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14A-3290-4662-92C8-95148599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D2D-EAEB-4F1F-9A56-7764D677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C23-E1F2-4A09-B3ED-E8F9353D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C259-8D3B-4B85-B102-CC2AF8F0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5963-19E2-4640-98C0-39942196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CD1C-DCB9-4EB0-8EFF-8D0A013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A8E1-99C4-447E-8881-D5BC71C0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26D9-DE50-4BDB-825E-D69A570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90C0-40CD-4B04-93E8-6AC97BF4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6455-4CD2-466E-B8E4-52B678B7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866-82AE-4744-A02A-1AEDEB0C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9088-575A-4531-B172-0E4E392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414C-1C0C-4B9B-B411-619190B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5EBA-0102-4AFE-A549-86605442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5F0E-274D-4C0B-89E3-BDE9D53E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8428-33AE-4176-8685-1EB08199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28E-FBCB-4BCD-8A63-F8B7904F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09E-61D0-4D94-882B-2EC34460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A77-46D8-4DD6-ADD8-4C728BCE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9B1-A294-4B23-A827-38824BC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093-7378-423E-9E64-669A9464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F06-08D6-4C95-ABA4-3900E6B4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965-8D38-47A6-9604-074779AD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24F8-7D63-420A-ACFA-2B3B2EE239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F0CE-9E09-447E-A95F-963935C395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ksalign.pbwork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Vocabulary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677880" y="9716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are your library valu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03240" y="228600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ellectual Freed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ite your TOP value (#1) on the card 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r chai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ss the card to the center ais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ashtags for this presentation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txla13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621400" y="55515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143000" y="1055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shmen Library Instruction 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6080" y="2590920"/>
          <a:ext cx="7547040" cy="2889000"/>
        </p:xfrm>
        <a:graphic>
          <a:graphicData uri="http://schemas.openxmlformats.org/drawingml/2006/table">
            <a:tbl>
              <a:tblPr/>
              <a:tblGrid>
                <a:gridCol w="1974960"/>
                <a:gridCol w="1685880"/>
                <a:gridCol w="1622160"/>
                <a:gridCol w="2264040"/>
              </a:tblGrid>
              <a:tr h="766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 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talog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4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1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8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53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ademic Search Premi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.4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9.6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7.4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500800" y="5581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9072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search Found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845320" y="3124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4560" y="47880"/>
            <a:ext cx="798084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uided Inquiry Design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9000" y="990720"/>
          <a:ext cx="8955000" cy="5813280"/>
        </p:xfrm>
        <a:graphic>
          <a:graphicData uri="http://schemas.openxmlformats.org/drawingml/2006/table">
            <a:tbl>
              <a:tblPr/>
              <a:tblGrid>
                <a:gridCol w="2577960"/>
                <a:gridCol w="1519200"/>
                <a:gridCol w="1790640"/>
                <a:gridCol w="3067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 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of IS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of Guided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quiry Co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ng the research projec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vitation to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 mi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imulate curios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ng a top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mer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ild background knowled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ing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 interesting ide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ng a foc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use and pon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 inquiry ques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ng information on focus and seeking mea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 important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 broad, go dee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paring to pres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e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5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ing the proces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 achieve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process/cont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,1994; Maniotes,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010640" cy="3967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4" name="TextBox 1"/>
          <p:cNvSpPr/>
          <p:nvPr/>
        </p:nvSpPr>
        <p:spPr>
          <a:xfrm>
            <a:off x="5486400" y="5638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ne Star by Anna Dar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696960" y="1954080"/>
            <a:ext cx="8343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-20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ertical Alignment of Research Skill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the Texas Library Associatio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ed by th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nton Inquiry 4 Lifelong Learning Te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p.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&amp; Skinner,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2438280"/>
            <a:ext cx="7772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greatest asset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ny library has is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 librarian”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Lankes, 2011, p. 29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62680" y="152280"/>
            <a:ext cx="2666880" cy="15112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5257800" y="5638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5410080" y="5562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A-R TEKS Rig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Inquiry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tand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xample: 1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590920"/>
          <a:ext cx="8153640" cy="3962160"/>
        </p:xfrm>
        <a:graphic>
          <a:graphicData uri="http://schemas.openxmlformats.org/drawingml/2006/table">
            <a:tbl>
              <a:tblPr/>
              <a:tblGrid>
                <a:gridCol w="1295640"/>
                <a:gridCol w="6858000"/>
              </a:tblGrid>
              <a:tr h="396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§110.34.b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ading/Comprehension of Literary Text/Them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nd Genre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udents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analyz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make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ference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draw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conclusion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bout theme and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enre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 different cultural, historical, and contemporary contexts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provide evidenc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)  relate the characters, setting, and theme of a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terary work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istorical, social, and economic idea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f its time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nton Inquiry 4 Lifelong Learning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9367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dentoninquiry4lifelonglearning.wikispaces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950760" y="971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LA-R TEKS Alignment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914400" y="4038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eksalign.pbworks.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270240" y="2427120"/>
            <a:ext cx="28954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udging Toward Inqui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524240" cy="1995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1278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Publ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62120" y="2362320"/>
            <a:ext cx="8381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age your Homeschool Popu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topic they already intend to study and work with the parents on how the library can hel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meeting time that is best for them and work in a group setting on a weekly ba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ite parents and siblings to a program where the students share their 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the process with the students at your last meet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066680" y="117144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219320" y="251460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y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ni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yLa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800600" y="125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Academ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14400" y="2666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stud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facult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762120" y="76032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br>
              <a:rPr sz="36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xas Woman’s Univers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762120" y="2362320"/>
            <a:ext cx="83818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S5443: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brarians as Instructional Partn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ork in partners to conduct an inquiry into various inquiry and research model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velop Web 2.0 presentations to persuade an audience to teach and apply the mode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I4LL Wiki Vocabulary P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762120" y="743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iversity of North Tex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762120" y="236232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uct an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student achievement  (TEKS, STA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pare a collaborative school library 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dvance achievement through guided inqui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an be tie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te standar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learly identifies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brari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assroom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for Gran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181160" y="2514600"/>
            <a:ext cx="683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from the Pane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Our Shared Valu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133720" y="2895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dle from the Participants’ Car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77880" y="1219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5486400" y="4724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and (Some) Answ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905120" y="28954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rom the Participa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003400" y="2413080"/>
            <a:ext cx="4930920" cy="3271680"/>
          </a:xfrm>
          <a:prstGeom prst="rect">
            <a:avLst/>
          </a:prstGeom>
          <a:ln w="25560">
            <a:solidFill>
              <a:srgbClr val="33cccc"/>
            </a:solidFill>
            <a:miter/>
          </a:ln>
        </p:spPr>
      </p:pic>
      <p:sp>
        <p:nvSpPr>
          <p:cNvPr id="185" name="TextBox 2"/>
          <p:cNvSpPr/>
          <p:nvPr/>
        </p:nvSpPr>
        <p:spPr>
          <a:xfrm>
            <a:off x="914400" y="6019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Retrieved from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www.hhs.gov/open/initiatives/innovationfellow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71680" y="114480"/>
            <a:ext cx="822852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120" y="761760"/>
            <a:ext cx="8080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. K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st, Anna. “Lone star.” Digital Image. Used with permis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Retrieved from http://www.hhs.gov/open/initiatives/innovationfellows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200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, Maniotes, L. K., &amp; Caspari, A. K. (2012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09560" y="633240"/>
            <a:ext cx="8138520" cy="33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11430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kes, R. D. (201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atlas of new librarianshi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Cambridge, MA: The MIT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. K.  (2005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transformative power of literary third sp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Unpublished Dissertation, University of Colorado, Boul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. G. (200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rieved from https://www.tsl.state.tx.us/ld/pubs/schlibsurvey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., &amp; Skinner, K. (2011). New roles for new times: Digital curation for preservation.  Washington, D.C.: Association of Research Libraries, Retrieved from http://www.arl.org/bm~doc/nrnt_digital_curation17mar11.pd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rd clouds. Created at Wordle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., &amp; Harada, V. H. Harada. (2008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Elementary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Middle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Public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High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Community College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University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3-04-25T01:27:18Z</dcterms:modified>
  <cp:revision>787</cp:revision>
  <dc:subject/>
  <dc:title>TLA08</dc:title>
</cp:coreProperties>
</file>