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F45B0DD-3E02-4F65-8CA1-F0E8B957B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06BB089-EC2D-4A3A-8CAC-C47C5BBD6ED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performance based software that we created at UNT. Using active learning component, catalog searching went up to a 38% success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FAF7085-ACC0-45D1-B80C-29C413E651E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F9C3559-8ED1-4819-9D74-C733828A5F5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Kuhlthau (and her daughters) built on the ISP by adding a guided inquiry design framework that invites educators to join the process by guiding and encouraging inqui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hlthau, C.C., Maniotes, L.K. &amp; Caspari, A. K. (2012). Guided inquiry design: A framework for inquiry in your school. Santa Barbara, CA: Libraries Unlimited/ABC-CL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81B1DD7-89E0-4B75-A53D-0BBC3DB80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3936960" y="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11/20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CC03FC4-2009-4E9E-809A-C7EA5274B72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5822299-B504-4611-A1B7-225D62610BD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C20CAB2-D938-4BAD-B083-319A03BED0D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E7D40FA-1A27-4CF8-BF02-E285052C762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80D3B39-7FF6-4721-9772-9B2C4866B67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FA1B846-BBF3-4F38-8941-E7CA1FF68BC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A99934F-2CB4-4900-BC9D-105ECA60096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F6C3548-F84B-4E49-B673-8C8107ABF93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4114-175C-4479-9BB5-26CA7E73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BFA-8F73-4834-9540-FFCFDE33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166-EC7D-4B46-A676-6B200282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3A2-205F-4ED6-9BE8-BF81CF40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7C97-6C40-4DDF-B4CE-A46BAFF9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207C-0D73-4252-8E1E-9527230F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AEF7-28D4-4064-9B81-2DB72B42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D29F-A324-47BE-A8AE-0A29380E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AAF0-8B57-4ABE-8A24-6F06C432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23E3-4427-4B04-8607-1E1225B3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21F5-EDB3-4F1D-AA79-253DA7C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07F-4AD0-44B2-8786-ACB54988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AEF6-AFFA-49CE-B894-39089B6A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9DC5-8488-40E0-9867-DBEE5D77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5039-A719-4E30-B142-89A741FD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9DA1-E6C9-486A-8671-34021ECD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38C7-EB28-4469-B652-01CFF230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507-258B-4438-8A18-42ADB82C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905-688F-49DD-9F56-E71B5BD2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4DE-BB80-4710-9395-00F0025A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08B-EB83-4DFC-9E6D-6E1B92B8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85DF-5A4D-4C82-9010-FB5699AE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CA1-BF12-42B9-9B4F-D94FD16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BBC-257A-40B2-8693-F7606C32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053F-9CDE-414A-A16C-A2904B027F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4487-A632-4F45-9C70-BFE339C719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ksalign.pbwork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Vocabulary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677880" y="9716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are your library valu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03240" y="228600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ellectual Freed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ite your TOP value (#1) on the card 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r chai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ss the card to the center ais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ashtags for this presentation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txla13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621400" y="55515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143000" y="1055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shmen Library Instruction 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6080" y="2590920"/>
          <a:ext cx="7547040" cy="2889000"/>
        </p:xfrm>
        <a:graphic>
          <a:graphicData uri="http://schemas.openxmlformats.org/drawingml/2006/table">
            <a:tbl>
              <a:tblPr/>
              <a:tblGrid>
                <a:gridCol w="1974960"/>
                <a:gridCol w="1685880"/>
                <a:gridCol w="1622160"/>
                <a:gridCol w="2264040"/>
              </a:tblGrid>
              <a:tr h="766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 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8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atalog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4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1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8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53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ademic Search Premi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.4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9.6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7.4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5500800" y="5581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990720" y="990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nton Inquiry Stud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219320" y="2438280"/>
            <a:ext cx="7238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search Found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Barbara Schultz-Jones,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ociate Professor, University of North Tex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Judi Moreill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istant Professor, Texas Woman’s Univer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ive - Feel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gnitive -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-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845320" y="3124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4560" y="47880"/>
            <a:ext cx="798084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uided Inquiry Design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9000" y="990720"/>
          <a:ext cx="8955000" cy="5813280"/>
        </p:xfrm>
        <a:graphic>
          <a:graphicData uri="http://schemas.openxmlformats.org/drawingml/2006/table">
            <a:tbl>
              <a:tblPr/>
              <a:tblGrid>
                <a:gridCol w="2577960"/>
                <a:gridCol w="1519200"/>
                <a:gridCol w="1790640"/>
                <a:gridCol w="3067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  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of IS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of Guided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quiry Co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ng the research projec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vitation to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 min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imulate curios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ng a top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mer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ild background knowled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ing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 interesting ide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ng a foc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use and pon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 inquiry ques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ng information on focus and seeking mea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 important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 broad, go dee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paring to pres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e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5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ing the proces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 achieve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process/cont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Zone of Intervention 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the Zone of Proximal Development (Vygotsk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ult facilitator intervention needed throughout the inquir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2004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space” - Negoti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curriculum (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 that is relevant to personal outside-of-school experience (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Bhabha,1994; Maniotes, 20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7010640" cy="3967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44" name="TextBox 1"/>
          <p:cNvSpPr/>
          <p:nvPr/>
        </p:nvSpPr>
        <p:spPr>
          <a:xfrm>
            <a:off x="5486400" y="5638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ne Star by Anna Dar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696960" y="1954080"/>
            <a:ext cx="8343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-20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ertical Alignment of Research Skill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the Texas Library Associatio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nted by th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nton Inquiry 4 Lifelong Learning Te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librarians’ effectiveness as educators ma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nge on being considered a peer by classroom teacher colleagues and equals with classroom teachers by administrator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Zmuda and Harada attest, “Effective partnerships help teachers to meet their existing priorities, which include the implementation of a standards-based curriculum” (2008, p. 38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360" y="829440"/>
            <a:ext cx="852120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/instructional partners in learning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s is the second on a new list of abilitie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cademic librarian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Walters &amp; Skinner, 2011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2438280"/>
            <a:ext cx="7772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greatest asset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ny library has is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 librarian”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Lankes, 2011, p. 29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62680" y="152280"/>
            <a:ext cx="2666880" cy="151128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benefits_students2_sized"/>
          <p:cNvPicPr/>
          <p:nvPr/>
        </p:nvPicPr>
        <p:blipFill>
          <a:blip r:embed="rId1"/>
          <a:stretch/>
        </p:blipFill>
        <p:spPr>
          <a:xfrm>
            <a:off x="835200" y="914400"/>
            <a:ext cx="7705440" cy="4389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5257800" y="5638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benefits_educators1_sized.jpg"/>
          <p:cNvPicPr/>
          <p:nvPr/>
        </p:nvPicPr>
        <p:blipFill>
          <a:blip r:embed="rId1"/>
          <a:stretch/>
        </p:blipFill>
        <p:spPr>
          <a:xfrm>
            <a:off x="585720" y="963720"/>
            <a:ext cx="7893000" cy="40528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5410080" y="5562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A-R TEKS Rig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a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196666"/>
                </a:solidFill>
                <a:latin typeface="Arial"/>
              </a:rPr>
              <a:t>Inquiry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tandar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xample: 1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590920"/>
          <a:ext cx="8153640" cy="3962160"/>
        </p:xfrm>
        <a:graphic>
          <a:graphicData uri="http://schemas.openxmlformats.org/drawingml/2006/table">
            <a:tbl>
              <a:tblPr/>
              <a:tblGrid>
                <a:gridCol w="1295640"/>
                <a:gridCol w="6858000"/>
              </a:tblGrid>
              <a:tr h="3962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§110.34.b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ading/Comprehension of Literary Text/Theme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nd Genre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udents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analyz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make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ference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draw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conclusion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bout theme and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genre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 different cultural, historical, and contemporary contexts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provide evidenc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)  relate the characters, setting, and theme of a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terary work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historical, social, and economic idea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f its time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nton Inquiry 4 Lifelong Learning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936720" y="4495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dentoninquiry4lifelonglearning.wikispaces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819520" y="236232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950760" y="97164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LA-R TEKS Alignment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914400" y="4038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eksalign.pbworks.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270240" y="2427120"/>
            <a:ext cx="28954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udging Toward Inqui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524240" cy="1995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1278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Publ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762120" y="2362320"/>
            <a:ext cx="8381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age your Homeschool Popu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topic they already intend to study and work with the parents on how the library can hel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meeting time that is best for them and work in a group setting on a weekly bas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ite parents and siblings to a program where the students share their wor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 the process with the students at your last meet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066680" y="117144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219320" y="251460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y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r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niel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yLa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800600" y="125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Academ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914400" y="26668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stud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facult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762120" y="76032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br>
              <a:rPr sz="36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xas Woman’s Univers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762120" y="2362320"/>
            <a:ext cx="83818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S5443: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brarians as Instructional Partn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work in partners to conduct an inquiry into various inquiry and research model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velop Web 2.0 presentations to persuade an audience to teach and apply the mode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 on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I4LL Wiki Vocabulary Pa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762120" y="74304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iversity of North Texa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762120" y="236232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uct an 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student achievement  (TEKS, STA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pare a collaborative school library 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advance achievement through guided inqui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an be tie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te standar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learly identifies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brari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assroom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for Gran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181160" y="2514600"/>
            <a:ext cx="6832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from the Pane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Our Shared Valu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133720" y="28954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dle from the Participants’ Car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77880" y="1219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5486400" y="4724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and (Some) Answ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1905120" y="28954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rom the Participa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003400" y="2413080"/>
            <a:ext cx="4930920" cy="3271680"/>
          </a:xfrm>
          <a:prstGeom prst="rect">
            <a:avLst/>
          </a:prstGeom>
          <a:ln w="25560">
            <a:solidFill>
              <a:srgbClr val="33cccc"/>
            </a:solidFill>
            <a:miter/>
          </a:ln>
        </p:spPr>
      </p:pic>
      <p:sp>
        <p:nvSpPr>
          <p:cNvPr id="185" name="TextBox 2"/>
          <p:cNvSpPr/>
          <p:nvPr/>
        </p:nvSpPr>
        <p:spPr>
          <a:xfrm>
            <a:off x="914400" y="601992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Retrieved from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www.hhs.gov/open/initiatives/innovationfellow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71680" y="114480"/>
            <a:ext cx="8228520" cy="5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120" y="761760"/>
            <a:ext cx="8080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habha, H. K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location of cult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Routled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rst, Anna. “Lone star.” Digital Image. Used with permiss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Retrieved from http://www.hhs.gov/open/initiatives/innovationfellows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aching the research proc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 New York: The Center for Applied Research in Education,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Scarecrow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200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eking meaning: A process approach to library and information sci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, Maniotes, L. K., &amp; Caspari, A. K. (2012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ided inquiry: Learning in the 21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09560" y="633240"/>
            <a:ext cx="8138520" cy="33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280" y="11430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kes, R. D. (201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atlas of new librarianshi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Cambridge, MA: The MIT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iotes, L. K.  (2005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transformative power of literary third sp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Unpublished Dissertation, University of Colorado, Boul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mith, E. G. (200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rieved from https://www.tsl.state.tx.us/ld/pubs/schlibsurvey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lters, T., &amp; Skinner, K. (2011). New roles for new times: Digital curation for preservation.  Washington, D.C.: Association of Research Libraries, Retrieved from http://www.arl.org/bm~doc/nrnt_digital_curation17mar11.pd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rd clouds. Created at Wordle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uda, A., &amp; Harada, V. H. Harada. (2008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ians as learning specialists: Meeting the imperative for the 21st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Elementary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Middle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Public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High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Community College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University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2:20:15Z</dcterms:created>
  <dc:creator>Judi Moreillon</dc:creator>
  <dc:description/>
  <dc:language>en-US</dc:language>
  <cp:lastModifiedBy>Judi Moreillon</cp:lastModifiedBy>
  <dcterms:modified xsi:type="dcterms:W3CDTF">2013-04-25T01:27:18Z</dcterms:modified>
  <cp:revision>787</cp:revision>
  <dc:subject/>
  <dc:title>TLA08</dc:title>
</cp:coreProperties>
</file>