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948488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948000" cy="927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0996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936600" y="0"/>
            <a:ext cx="300996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57400" y="695160"/>
            <a:ext cx="4635360" cy="3476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925200" y="4403880"/>
            <a:ext cx="5095800" cy="4171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807400"/>
            <a:ext cx="300996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936600" y="8807400"/>
            <a:ext cx="300996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3E370EB5-366A-4FAF-9A2C-D78157D085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936960" y="8807400"/>
            <a:ext cx="30099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2B330A62-9E3E-46BC-99C2-42E7146C5850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5740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25200" y="4403880"/>
            <a:ext cx="509580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5740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25200" y="4403880"/>
            <a:ext cx="5095800" cy="4171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used a performance based software that we created at UNT. Using active learning component, catalog searching went up to a 38% success ra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3936960" y="8807400"/>
            <a:ext cx="30099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F06F13D0-56FE-43D8-B960-2CB7C3DE2169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936960" y="8807400"/>
            <a:ext cx="30099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ABBCE15A-7DEE-4E9D-9A80-A613FD8CCC19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5740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25200" y="4403880"/>
            <a:ext cx="509580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5740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25200" y="4403880"/>
            <a:ext cx="5095800" cy="4171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then Kuhlthau (and her daughters) built on the ISP by adding a guided inquiry design framework that invites educators to join the process by guiding and encouraging inqui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uhlthau, C.C., Maniotes, L.K. &amp; Caspari, A. K. (2012). Guided inquiry design: A framework for inquiry in your school. Santa Barbara, CA: Libraries Unlimited/ABC-CLIO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3936960" y="8807400"/>
            <a:ext cx="30099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F9EDD999-102C-4BC8-B951-B2B33A5D32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3" name="Date Placeholder 4"/>
          <p:cNvSpPr/>
          <p:nvPr/>
        </p:nvSpPr>
        <p:spPr>
          <a:xfrm>
            <a:off x="3936960" y="0"/>
            <a:ext cx="30099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/11/2013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936960" y="8807400"/>
            <a:ext cx="30099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EF01EDFB-233A-4A34-B3F3-E7EB5962DC9A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5740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25200" y="4403880"/>
            <a:ext cx="509580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5740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25200" y="4403880"/>
            <a:ext cx="509580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936960" y="8807400"/>
            <a:ext cx="30099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FC264105-AAA4-4C15-8135-D13D8F9A8FD1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936960" y="8807400"/>
            <a:ext cx="30099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37311DDF-EEFD-48A4-BD21-34C16DF3E505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5740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25200" y="4403880"/>
            <a:ext cx="509580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936960" y="8807400"/>
            <a:ext cx="30099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2E979196-ABEF-4937-9D21-C913043D5371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5740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25200" y="4403880"/>
            <a:ext cx="509580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936960" y="8807400"/>
            <a:ext cx="30099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B285C254-F386-4049-A423-D87CF5EA0948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5740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25200" y="4403880"/>
            <a:ext cx="509580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936960" y="8807400"/>
            <a:ext cx="30099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40257197-25FA-47AE-B2E4-B15247B31E5B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5740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25200" y="4403880"/>
            <a:ext cx="509580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936960" y="8807400"/>
            <a:ext cx="30099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DCED12E9-C5DB-465F-B6A1-11C49B92B6EA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5740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25200" y="4403880"/>
            <a:ext cx="509580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936960" y="8807400"/>
            <a:ext cx="30099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75007678-408E-40FE-B5D8-D39EC4775718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5740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25200" y="4403880"/>
            <a:ext cx="509580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5D445-0B46-415D-92F6-707F82763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59BDA-D466-4974-B57C-9F3D8A42F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6F74D-FF64-4E69-9CC2-09CD6AF7E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39F60-8166-484E-AD79-B9D1E9138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EC20A-8895-450F-9307-1809C9EE8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6D1EB-F01F-4DDD-9A4B-38C45D149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1A505-29C5-4567-9F84-5C64AECC7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E14A6-F54B-420B-A4E1-DA2445930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6595C-9998-4CEB-90BA-CE6E16575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539A8-D1F0-46D2-83B8-C12848273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33C6D-18B4-4CE6-88B5-677F220A3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F0565-7926-4ADD-BB82-8D06AA197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D9EBB-2D3F-4C3F-B562-482F67D59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79BB0-10C8-45A6-A97A-3C3FFC872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659AB-6266-497D-A863-F5271072B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B963D-1080-4ACE-9FD7-8EEC06B57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3D9CC-F5AD-4B31-B498-9BEB8A175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EF536-19B9-4D1A-926F-1C79BE170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97887-5CD7-4499-8B3D-8AB4EC5B8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D6C7A-2466-4373-9702-8EEE50DB7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F5227-3B66-4DC2-AE4C-E8F18737F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90788-54F0-498C-96BD-89DE5FFE7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42837-60B3-475D-B466-DB1FAB2E3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67E61-060B-42D2-958E-DD72EE571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EE620-C3B7-44D5-BB63-AFD7F8645528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1C3AA-DFCF-47EC-B32E-1006DC80B1B6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dentoninquiry4lifelonglearning.wikispaces.com/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teksalign.pbworks.com/" TargetMode="Externa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dentoninquiry4lifelonglearning.wikispaces.com/Vocabulary" TargetMode="External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Box 2"/>
          <p:cNvSpPr/>
          <p:nvPr/>
        </p:nvSpPr>
        <p:spPr>
          <a:xfrm>
            <a:off x="677880" y="97164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What are your library values?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TextBox 4"/>
          <p:cNvSpPr/>
          <p:nvPr/>
        </p:nvSpPr>
        <p:spPr>
          <a:xfrm>
            <a:off x="903240" y="2286000"/>
            <a:ext cx="80773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For example: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Intellectual Freedom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Write your TOP value (#1) on the card on 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your chair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Pass the card to the center aisle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Hashtags for this presentation: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#txla13 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#di4l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Box 1"/>
          <p:cNvSpPr/>
          <p:nvPr/>
        </p:nvSpPr>
        <p:spPr>
          <a:xfrm>
            <a:off x="1143000" y="1055520"/>
            <a:ext cx="754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What's the deal with DI4LL? 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2" name="Picture 2" descr=""/>
          <p:cNvPicPr/>
          <p:nvPr/>
        </p:nvPicPr>
        <p:blipFill>
          <a:blip r:embed="rId1"/>
          <a:stretch/>
        </p:blipFill>
        <p:spPr>
          <a:xfrm>
            <a:off x="609480" y="2362320"/>
            <a:ext cx="8229600" cy="3095640"/>
          </a:xfrm>
          <a:prstGeom prst="rect">
            <a:avLst/>
          </a:prstGeom>
          <a:ln w="0">
            <a:noFill/>
          </a:ln>
        </p:spPr>
      </p:pic>
      <p:sp>
        <p:nvSpPr>
          <p:cNvPr id="123" name="TextBox 3"/>
          <p:cNvSpPr/>
          <p:nvPr/>
        </p:nvSpPr>
        <p:spPr>
          <a:xfrm>
            <a:off x="5621400" y="555156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Created at Wordle.ne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Box 1"/>
          <p:cNvSpPr/>
          <p:nvPr/>
        </p:nvSpPr>
        <p:spPr>
          <a:xfrm>
            <a:off x="1143000" y="1055520"/>
            <a:ext cx="685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Freshmen Library Instruction  Resul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216080" y="2590920"/>
          <a:ext cx="7547040" cy="2889000"/>
        </p:xfrm>
        <a:graphic>
          <a:graphicData uri="http://schemas.openxmlformats.org/drawingml/2006/table">
            <a:tbl>
              <a:tblPr/>
              <a:tblGrid>
                <a:gridCol w="1974960"/>
                <a:gridCol w="1685880"/>
                <a:gridCol w="1622160"/>
                <a:gridCol w="2264040"/>
              </a:tblGrid>
              <a:tr h="7668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Pre-test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Post-test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Post post-test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</a:tr>
              <a:tr h="7682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Catalog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.24%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1.13%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7.8%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</a:tr>
              <a:tr h="135396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Academic Search Premier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6.49%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49.69%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47.43%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Box 1"/>
          <p:cNvSpPr/>
          <p:nvPr/>
        </p:nvSpPr>
        <p:spPr>
          <a:xfrm>
            <a:off x="1143000" y="1055520"/>
            <a:ext cx="754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What's the deal with DI4LL? 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7" name="Picture 2" descr=""/>
          <p:cNvPicPr/>
          <p:nvPr/>
        </p:nvPicPr>
        <p:blipFill>
          <a:blip r:embed="rId1"/>
          <a:stretch/>
        </p:blipFill>
        <p:spPr>
          <a:xfrm>
            <a:off x="609480" y="2362320"/>
            <a:ext cx="8229600" cy="3095640"/>
          </a:xfrm>
          <a:prstGeom prst="rect">
            <a:avLst/>
          </a:prstGeom>
          <a:ln w="0">
            <a:noFill/>
          </a:ln>
        </p:spPr>
      </p:pic>
      <p:sp>
        <p:nvSpPr>
          <p:cNvPr id="128" name="TextBox 3"/>
          <p:cNvSpPr/>
          <p:nvPr/>
        </p:nvSpPr>
        <p:spPr>
          <a:xfrm>
            <a:off x="5500800" y="55818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Created at Wordle.ne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Box 2"/>
          <p:cNvSpPr/>
          <p:nvPr/>
        </p:nvSpPr>
        <p:spPr>
          <a:xfrm>
            <a:off x="990720" y="990720"/>
            <a:ext cx="5638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Arial"/>
              </a:rPr>
              <a:t>Denton Inquiry Study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0" name="TextBox 4"/>
          <p:cNvSpPr/>
          <p:nvPr/>
        </p:nvSpPr>
        <p:spPr>
          <a:xfrm>
            <a:off x="1219320" y="2438280"/>
            <a:ext cx="7238880" cy="32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Research Foundation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Dr. Barbara Schultz-Jones, </a:t>
            </a:r>
            <a:br>
              <a:rPr sz="3200"/>
            </a:b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Associate Professor, University of North Texa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an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Dr. Judi Moreillon,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Assistant Professor, Texas Woman’s Universit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900360" y="977040"/>
            <a:ext cx="8028360" cy="86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Inquiry: A Research-based Strateg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914040" y="1980720"/>
            <a:ext cx="84582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Information Search Process (ISP)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2" marL="743040" indent="-34308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ffective - Feeling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743040" indent="-34308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ognitive - Thought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743040" indent="-34308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hysical - Action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(Kuhlthau, 1985)</a:t>
            </a:r>
            <a:br>
              <a:rPr sz="2800"/>
            </a:b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2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2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20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20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20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20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900360" y="977040"/>
            <a:ext cx="8028360" cy="86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Inquiry: A Research-based Strateg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914040" y="1980720"/>
            <a:ext cx="84582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1" marL="298440" indent="-298440">
              <a:spcBef>
                <a:spcPts val="799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Information Search Process (ISP)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2" marL="646200" indent="-2984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nitia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646200" indent="-2984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lec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646200" indent="-2984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xplora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646200" indent="-2984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ormula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646200" indent="-2984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ollec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646200" indent="-2984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resenta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646200" indent="-2984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ssessmen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298440" indent="-2984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(Kuhlthau, 1985)</a:t>
            </a:r>
            <a:br>
              <a:rPr sz="2800"/>
            </a:b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98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5" name="Picture 1" descr=""/>
          <p:cNvPicPr/>
          <p:nvPr/>
        </p:nvPicPr>
        <p:blipFill>
          <a:blip r:embed="rId1"/>
          <a:stretch/>
        </p:blipFill>
        <p:spPr>
          <a:xfrm>
            <a:off x="5845320" y="3124080"/>
            <a:ext cx="1981080" cy="1981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2000" fill="hold"/>
                                        <p:tgtEl>
                                          <p:spTgt spid="13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2000" fill="hold"/>
                                        <p:tgtEl>
                                          <p:spTgt spid="13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20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20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20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20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20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20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20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20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20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20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2000" fill="hold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2000" fill="hold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2000" fill="hold"/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2000" fill="hold"/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Slide Number Placeholder 4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1114560" y="47880"/>
            <a:ext cx="7980840" cy="66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Guided Inquiry Design Framework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189000" y="990720"/>
          <a:ext cx="8955000" cy="5813280"/>
        </p:xfrm>
        <a:graphic>
          <a:graphicData uri="http://schemas.openxmlformats.org/drawingml/2006/table">
            <a:tbl>
              <a:tblPr/>
              <a:tblGrid>
                <a:gridCol w="2577960"/>
                <a:gridCol w="1519200"/>
                <a:gridCol w="1790640"/>
                <a:gridCol w="3067200"/>
              </a:tblGrid>
              <a:tr h="9147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  Action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age of ISP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hase of Guided Inquiry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quiry Community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9147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Initiating the research project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Initiation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Open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Invitation to inquiry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Open minds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Stimulate curiosity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Selecting a topic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Selection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Immers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Build background knowledg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</a:tr>
              <a:tr h="4892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Exploring Information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Exploration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Explor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Explore interesting ideas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Formulating a focus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Formulation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Identify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Pause and ponder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Identify inquiry question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</a:tr>
              <a:tr h="9147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Collecting information on focus and seeking meaning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Collection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Gather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Gather important information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Go broad, go deep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Preparing to present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Presentation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Creat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Shar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Reflect on learning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Share learning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</a:tr>
              <a:tr h="6584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Assessing the process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Assessment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Evaluat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Evaluate achievement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Reflect on process/content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900360" y="977040"/>
            <a:ext cx="8028360" cy="86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Inquiry: A Research-based Strateg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6840" y="2209320"/>
            <a:ext cx="84582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Zone of Intervention </a:t>
            </a:r>
            <a:br>
              <a:rPr sz="3600"/>
            </a:b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based on the Zone of Proximal Development (Vygotsky)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Adult facilitator intervention needed throughout the inquiry proces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(Kuhlthau, 2004)</a:t>
            </a:r>
            <a:br>
              <a:rPr sz="2800"/>
            </a:b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2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2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900360" y="977040"/>
            <a:ext cx="8028360" cy="86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Inquiry: A Research-based Strateg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456840" y="2209320"/>
            <a:ext cx="84582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1" marL="305280" indent="-305280">
              <a:spcBef>
                <a:spcPts val="799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Third space” - Negotiated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305280" indent="-305280">
              <a:spcBef>
                <a:spcPts val="799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chool curriculum (2</a:t>
            </a:r>
            <a:r>
              <a:rPr b="0" lang="en-US" sz="3200" spc="-1" strike="noStrike" baseline="30000">
                <a:solidFill>
                  <a:srgbClr val="003366"/>
                </a:solidFill>
                <a:latin typeface="Arial"/>
              </a:rPr>
              <a:t>nd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 space) that is relevant to personal outside-of-school experience (1</a:t>
            </a:r>
            <a:r>
              <a:rPr b="0" lang="en-US" sz="3200" spc="-1" strike="noStrike" baseline="30000">
                <a:solidFill>
                  <a:srgbClr val="003366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 space)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3052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305280" indent="-30528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(Bhabha,1994; Maniotes, 2005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3052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305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2000" fill="hold"/>
                                        <p:tgtEl>
                                          <p:spTgt spid="1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2000" fill="hold"/>
                                        <p:tgtEl>
                                          <p:spTgt spid="1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20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20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1" descr=""/>
          <p:cNvPicPr/>
          <p:nvPr/>
        </p:nvPicPr>
        <p:blipFill>
          <a:blip r:embed="rId1"/>
          <a:stretch/>
        </p:blipFill>
        <p:spPr>
          <a:xfrm>
            <a:off x="1295280" y="1066680"/>
            <a:ext cx="7010640" cy="3967200"/>
          </a:xfrm>
          <a:prstGeom prst="rect">
            <a:avLst/>
          </a:prstGeom>
          <a:ln w="38160">
            <a:solidFill>
              <a:srgbClr val="002060"/>
            </a:solidFill>
            <a:miter/>
          </a:ln>
        </p:spPr>
      </p:pic>
      <p:sp>
        <p:nvSpPr>
          <p:cNvPr id="144" name="TextBox 1"/>
          <p:cNvSpPr/>
          <p:nvPr/>
        </p:nvSpPr>
        <p:spPr>
          <a:xfrm>
            <a:off x="5486400" y="563868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Lone Star by Anna Dars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Box 4"/>
          <p:cNvSpPr/>
          <p:nvPr/>
        </p:nvSpPr>
        <p:spPr>
          <a:xfrm>
            <a:off x="696960" y="1954080"/>
            <a:ext cx="8343720" cy="42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P-20 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Vertical Alignment of Research Skills 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For the Texas Library Association</a:t>
            </a:r>
            <a:br>
              <a:rPr sz="2400"/>
            </a:b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2013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Presented by the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Denton Inquiry 4 Lifelong Learning Team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DI4L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5" name="Picture 1" descr=""/>
          <p:cNvPicPr/>
          <p:nvPr/>
        </p:nvPicPr>
        <p:blipFill>
          <a:blip r:embed="rId1"/>
          <a:stretch/>
        </p:blipFill>
        <p:spPr>
          <a:xfrm>
            <a:off x="689040" y="152280"/>
            <a:ext cx="3657600" cy="182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-9000" y="67320"/>
            <a:ext cx="8521560" cy="93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                             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Evidence 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IN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 Practice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456840" y="91404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0000"/>
          </a:bodyPr>
          <a:p>
            <a:pPr marL="2743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74320" indent="-2743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chool librarians’ effectiveness as educators may 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74320" indent="-2743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inge on being considered a peer by classroom teacher colleagues and equals with classroom teachers by administrators. </a:t>
            </a:r>
            <a:br>
              <a:rPr sz="2800"/>
            </a:b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74320" indent="-2743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s Zmuda and Harada attest, “Effective partnerships help teachers to meet their existing priorities, which include the implementation of a standards-based curriculum” (2008, p. 38)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20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20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20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20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45360" y="829440"/>
            <a:ext cx="8521200" cy="93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                             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Evidence 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IN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 Practice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990360" y="182844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eachers/instructional partners in learning </a:t>
            </a:r>
            <a:br>
              <a:rPr sz="2800"/>
            </a:b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paces is the second on a new list of abilities </a:t>
            </a:r>
            <a:br>
              <a:rPr sz="2800"/>
            </a:b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r academic librarians.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(Walters &amp; Skinner, 2011)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20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20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20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20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Box 1"/>
          <p:cNvSpPr/>
          <p:nvPr/>
        </p:nvSpPr>
        <p:spPr>
          <a:xfrm>
            <a:off x="762120" y="2438280"/>
            <a:ext cx="7772400" cy="28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en-US" sz="4800" spc="-1" strike="noStrike">
                <a:solidFill>
                  <a:srgbClr val="003366"/>
                </a:solidFill>
                <a:latin typeface="Arial"/>
              </a:rPr>
              <a:t>The greatest asset 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66"/>
                </a:solidFill>
                <a:latin typeface="Arial"/>
              </a:rPr>
              <a:t>any library has is 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66"/>
                </a:solidFill>
                <a:latin typeface="Arial"/>
              </a:rPr>
              <a:t>a librarian” 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Lankes, 2011, p. 29)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0" name="Picture 2" descr=""/>
          <p:cNvPicPr/>
          <p:nvPr/>
        </p:nvPicPr>
        <p:blipFill>
          <a:blip r:embed="rId1"/>
          <a:stretch/>
        </p:blipFill>
        <p:spPr>
          <a:xfrm>
            <a:off x="5062680" y="152280"/>
            <a:ext cx="2666880" cy="1511280"/>
          </a:xfrm>
          <a:prstGeom prst="rect">
            <a:avLst/>
          </a:prstGeom>
          <a:ln w="25560">
            <a:solidFill>
              <a:srgbClr val="00206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6" descr="benefits_students2_sized"/>
          <p:cNvPicPr/>
          <p:nvPr/>
        </p:nvPicPr>
        <p:blipFill>
          <a:blip r:embed="rId1"/>
          <a:stretch/>
        </p:blipFill>
        <p:spPr>
          <a:xfrm>
            <a:off x="835200" y="914400"/>
            <a:ext cx="7705440" cy="4389480"/>
          </a:xfrm>
          <a:prstGeom prst="rect">
            <a:avLst/>
          </a:prstGeom>
          <a:ln w="0">
            <a:noFill/>
          </a:ln>
        </p:spPr>
      </p:pic>
      <p:sp>
        <p:nvSpPr>
          <p:cNvPr id="152" name="TextBox 1"/>
          <p:cNvSpPr/>
          <p:nvPr/>
        </p:nvSpPr>
        <p:spPr>
          <a:xfrm>
            <a:off x="5257800" y="563868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Created at Wordle.ne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7" descr="benefits_educators1_sized.jpg"/>
          <p:cNvPicPr/>
          <p:nvPr/>
        </p:nvPicPr>
        <p:blipFill>
          <a:blip r:embed="rId1"/>
          <a:stretch/>
        </p:blipFill>
        <p:spPr>
          <a:xfrm>
            <a:off x="585720" y="963720"/>
            <a:ext cx="7893000" cy="4052880"/>
          </a:xfrm>
          <a:prstGeom prst="rect">
            <a:avLst/>
          </a:prstGeom>
          <a:ln w="0">
            <a:noFill/>
          </a:ln>
        </p:spPr>
      </p:pic>
      <p:sp>
        <p:nvSpPr>
          <p:cNvPr id="154" name="TextBox 1"/>
          <p:cNvSpPr/>
          <p:nvPr/>
        </p:nvSpPr>
        <p:spPr>
          <a:xfrm>
            <a:off x="5410080" y="5562720"/>
            <a:ext cx="284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Created at Wordle.ne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-9000" y="67320"/>
            <a:ext cx="8521560" cy="93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                             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ELA-R TEKS Rigor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685800" y="609120"/>
            <a:ext cx="861048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Reading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/</a:t>
            </a:r>
            <a:r>
              <a:rPr b="1" lang="en-US" sz="2800" spc="-1" strike="noStrike">
                <a:solidFill>
                  <a:srgbClr val="196666"/>
                </a:solidFill>
                <a:latin typeface="Arial"/>
              </a:rPr>
              <a:t>Inquiry 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Standards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Example: 12</a:t>
            </a:r>
            <a:r>
              <a:rPr b="0" lang="en-US" sz="2800" spc="-1" strike="noStrike" baseline="30000">
                <a:solidFill>
                  <a:srgbClr val="003366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grad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838080" y="2590920"/>
          <a:ext cx="8153640" cy="3962160"/>
        </p:xfrm>
        <a:graphic>
          <a:graphicData uri="http://schemas.openxmlformats.org/drawingml/2006/table">
            <a:tbl>
              <a:tblPr/>
              <a:tblGrid>
                <a:gridCol w="1295640"/>
                <a:gridCol w="6858000"/>
              </a:tblGrid>
              <a:tr h="39621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§110.34.b</a:t>
                      </a: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. </a:t>
                      </a: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(2)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Reading/Comprehension of Literary Text/Theme </a:t>
                      </a:r>
                      <a:br>
                        <a:rPr sz="2400"/>
                      </a:b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and Genre. 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tudents </a:t>
                      </a:r>
                      <a:r>
                        <a:rPr b="1" lang="en-US" sz="28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analyze</a:t>
                      </a: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 make </a:t>
                      </a:r>
                      <a:r>
                        <a:rPr b="1" lang="en-US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inferences</a:t>
                      </a: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and </a:t>
                      </a:r>
                      <a:r>
                        <a:rPr b="1" lang="en-US" sz="28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draw</a:t>
                      </a:r>
                      <a:r>
                        <a:rPr b="1" lang="en-US" sz="24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conclusions</a:t>
                      </a: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about theme and </a:t>
                      </a:r>
                      <a:r>
                        <a:rPr b="1" lang="en-US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genre </a:t>
                      </a: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in different cultural, historical, and contemporary contexts and </a:t>
                      </a:r>
                      <a:r>
                        <a:rPr b="1" lang="en-US" sz="28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provide evidence</a:t>
                      </a: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…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(</a:t>
                      </a: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C)  relate the characters, setting, and theme of a </a:t>
                      </a:r>
                      <a:r>
                        <a:rPr b="1" lang="en-US" sz="2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literary work </a:t>
                      </a: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o the </a:t>
                      </a:r>
                      <a:r>
                        <a:rPr b="1" lang="en-US" sz="28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historical, social, and economic ideas</a:t>
                      </a: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of its time.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Box 1"/>
          <p:cNvSpPr/>
          <p:nvPr/>
        </p:nvSpPr>
        <p:spPr>
          <a:xfrm>
            <a:off x="762120" y="1066680"/>
            <a:ext cx="838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Denton Inquiry 4 Lifelong Learning Wiki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9" name="TextBox 2"/>
          <p:cNvSpPr/>
          <p:nvPr/>
        </p:nvSpPr>
        <p:spPr>
          <a:xfrm>
            <a:off x="936720" y="449568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http://dentoninquiry4lifelonglearning.wikispaces.com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0" name="Picture 3" descr=""/>
          <p:cNvPicPr/>
          <p:nvPr/>
        </p:nvPicPr>
        <p:blipFill>
          <a:blip r:embed="rId2"/>
          <a:stretch/>
        </p:blipFill>
        <p:spPr>
          <a:xfrm>
            <a:off x="2819520" y="2362320"/>
            <a:ext cx="36576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1"/>
          <p:cNvSpPr/>
          <p:nvPr/>
        </p:nvSpPr>
        <p:spPr>
          <a:xfrm>
            <a:off x="950760" y="971640"/>
            <a:ext cx="838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ELA-R TEKS Alignment Wiki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2" name="TextBox 2"/>
          <p:cNvSpPr/>
          <p:nvPr/>
        </p:nvSpPr>
        <p:spPr>
          <a:xfrm>
            <a:off x="914400" y="4038480"/>
            <a:ext cx="8001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http://teksalign.pbworks.com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3" name="Picture 4" descr=""/>
          <p:cNvPicPr/>
          <p:nvPr/>
        </p:nvPicPr>
        <p:blipFill>
          <a:blip r:embed="rId2"/>
          <a:stretch/>
        </p:blipFill>
        <p:spPr>
          <a:xfrm>
            <a:off x="3270240" y="2427120"/>
            <a:ext cx="2895480" cy="12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Box 1"/>
          <p:cNvSpPr/>
          <p:nvPr/>
        </p:nvSpPr>
        <p:spPr>
          <a:xfrm>
            <a:off x="762120" y="1066680"/>
            <a:ext cx="838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Nudging Toward Inquiry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5" name="Picture 1" descr=""/>
          <p:cNvPicPr/>
          <p:nvPr/>
        </p:nvPicPr>
        <p:blipFill>
          <a:blip r:embed="rId1"/>
          <a:stretch/>
        </p:blipFill>
        <p:spPr>
          <a:xfrm>
            <a:off x="7010280" y="838080"/>
            <a:ext cx="1524240" cy="19954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2" descr=""/>
          <p:cNvPicPr/>
          <p:nvPr/>
        </p:nvPicPr>
        <p:blipFill>
          <a:blip r:embed="rId2"/>
          <a:stretch/>
        </p:blipFill>
        <p:spPr>
          <a:xfrm>
            <a:off x="1523880" y="2438280"/>
            <a:ext cx="5127840" cy="430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Box 1"/>
          <p:cNvSpPr/>
          <p:nvPr/>
        </p:nvSpPr>
        <p:spPr>
          <a:xfrm>
            <a:off x="762120" y="1066680"/>
            <a:ext cx="838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Applying Inquiry in the Public Library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8" name="TextBox 2"/>
          <p:cNvSpPr/>
          <p:nvPr/>
        </p:nvSpPr>
        <p:spPr>
          <a:xfrm>
            <a:off x="762120" y="2362320"/>
            <a:ext cx="8381880" cy="393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ngage your Homeschool Popula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ind a topic they already intend to study and work with the parents on how the library can help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ind a meeting time that is best for them and work in a group setting on a weekly basi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nvite parents and siblings to a program where the students share their work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valuate the process with the students at your last meeting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Box 1"/>
          <p:cNvSpPr/>
          <p:nvPr/>
        </p:nvSpPr>
        <p:spPr>
          <a:xfrm>
            <a:off x="1066680" y="1171440"/>
            <a:ext cx="632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Introductions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" name="TextBox 2"/>
          <p:cNvSpPr/>
          <p:nvPr/>
        </p:nvSpPr>
        <p:spPr>
          <a:xfrm>
            <a:off x="1219320" y="2514600"/>
            <a:ext cx="72388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ayl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arb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aniell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yLain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onn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re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Jud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8" name="Picture 3" descr=""/>
          <p:cNvPicPr/>
          <p:nvPr/>
        </p:nvPicPr>
        <p:blipFill>
          <a:blip r:embed="rId1"/>
          <a:stretch/>
        </p:blipFill>
        <p:spPr>
          <a:xfrm>
            <a:off x="4800600" y="125280"/>
            <a:ext cx="36576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Box 1"/>
          <p:cNvSpPr/>
          <p:nvPr/>
        </p:nvSpPr>
        <p:spPr>
          <a:xfrm>
            <a:off x="762120" y="1066680"/>
            <a:ext cx="838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Applying Inquiry in the Academic Library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0" name="TextBox 2"/>
          <p:cNvSpPr/>
          <p:nvPr/>
        </p:nvSpPr>
        <p:spPr>
          <a:xfrm>
            <a:off x="914400" y="2666880"/>
            <a:ext cx="8001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Working with students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Working with faculty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Box 1"/>
          <p:cNvSpPr/>
          <p:nvPr/>
        </p:nvSpPr>
        <p:spPr>
          <a:xfrm>
            <a:off x="762120" y="760320"/>
            <a:ext cx="83818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Applying Inquiry in Library Education</a:t>
            </a:r>
            <a:br>
              <a:rPr sz="3600"/>
            </a:b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Texas Woman’s University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2" name="TextBox 2"/>
          <p:cNvSpPr/>
          <p:nvPr/>
        </p:nvSpPr>
        <p:spPr>
          <a:xfrm>
            <a:off x="762120" y="2362320"/>
            <a:ext cx="8381880" cy="41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S5443: 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Librarians as Instructional Partner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tudents work in partners to conduct an inquiry into various inquiry and research models.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Develop Web 2.0 presentations to persuade an audience to teach and apply the model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xamples on the 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DI4LL Wiki Vocabulary Page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Box 1"/>
          <p:cNvSpPr/>
          <p:nvPr/>
        </p:nvSpPr>
        <p:spPr>
          <a:xfrm>
            <a:off x="762120" y="743040"/>
            <a:ext cx="83818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Applying Inquiry in Library Education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University of North Texa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4" name="Rectangle 1"/>
          <p:cNvSpPr/>
          <p:nvPr/>
        </p:nvSpPr>
        <p:spPr>
          <a:xfrm>
            <a:off x="762120" y="2362320"/>
            <a:ext cx="80769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Conduct an assessment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of student achievement  (TEKS, STAAR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Prepare a collaborative school library plan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to advance achievement through guided inquir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esson plan that can be tied to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tate standards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esson plan that clearly identifies the role of the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librarian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AND the role of the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classroom teach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Box 1"/>
          <p:cNvSpPr/>
          <p:nvPr/>
        </p:nvSpPr>
        <p:spPr>
          <a:xfrm>
            <a:off x="762120" y="1066680"/>
            <a:ext cx="838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Applying for Grants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76" name="Picture 1" descr=""/>
          <p:cNvPicPr/>
          <p:nvPr/>
        </p:nvPicPr>
        <p:blipFill>
          <a:blip r:embed="rId1"/>
          <a:stretch/>
        </p:blipFill>
        <p:spPr>
          <a:xfrm>
            <a:off x="1181160" y="2514600"/>
            <a:ext cx="683244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Box 1"/>
          <p:cNvSpPr/>
          <p:nvPr/>
        </p:nvSpPr>
        <p:spPr>
          <a:xfrm>
            <a:off x="762120" y="1066680"/>
            <a:ext cx="838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Questions from the Panel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Box 1"/>
          <p:cNvSpPr/>
          <p:nvPr/>
        </p:nvSpPr>
        <p:spPr>
          <a:xfrm>
            <a:off x="762120" y="1066680"/>
            <a:ext cx="838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Our Shared Values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9" name="TextBox 2"/>
          <p:cNvSpPr/>
          <p:nvPr/>
        </p:nvSpPr>
        <p:spPr>
          <a:xfrm>
            <a:off x="2133720" y="2895480"/>
            <a:ext cx="5410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Wordle from the Participants’ Cards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2" descr=""/>
          <p:cNvPicPr/>
          <p:nvPr/>
        </p:nvPicPr>
        <p:blipFill>
          <a:blip r:embed="rId1"/>
          <a:stretch/>
        </p:blipFill>
        <p:spPr>
          <a:xfrm>
            <a:off x="677880" y="1219320"/>
            <a:ext cx="8229600" cy="3095640"/>
          </a:xfrm>
          <a:prstGeom prst="rect">
            <a:avLst/>
          </a:prstGeom>
          <a:ln w="0">
            <a:noFill/>
          </a:ln>
        </p:spPr>
      </p:pic>
      <p:sp>
        <p:nvSpPr>
          <p:cNvPr id="181" name="TextBox 3"/>
          <p:cNvSpPr/>
          <p:nvPr/>
        </p:nvSpPr>
        <p:spPr>
          <a:xfrm>
            <a:off x="5486400" y="47242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Created at Wordle.ne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Box 1"/>
          <p:cNvSpPr/>
          <p:nvPr/>
        </p:nvSpPr>
        <p:spPr>
          <a:xfrm>
            <a:off x="762120" y="1066680"/>
            <a:ext cx="838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Questions and (Some) Answers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3" name="TextBox 2"/>
          <p:cNvSpPr/>
          <p:nvPr/>
        </p:nvSpPr>
        <p:spPr>
          <a:xfrm>
            <a:off x="1905120" y="2895480"/>
            <a:ext cx="5410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From the Participants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84" name="Picture 1" descr=""/>
          <p:cNvPicPr/>
          <p:nvPr/>
        </p:nvPicPr>
        <p:blipFill>
          <a:blip r:embed="rId1"/>
          <a:stretch/>
        </p:blipFill>
        <p:spPr>
          <a:xfrm>
            <a:off x="2003400" y="2413080"/>
            <a:ext cx="4930920" cy="3271680"/>
          </a:xfrm>
          <a:prstGeom prst="rect">
            <a:avLst/>
          </a:prstGeom>
          <a:ln w="25560">
            <a:solidFill>
              <a:srgbClr val="33cccc"/>
            </a:solidFill>
            <a:miter/>
          </a:ln>
        </p:spPr>
      </p:pic>
      <p:sp>
        <p:nvSpPr>
          <p:cNvPr id="185" name="TextBox 2"/>
          <p:cNvSpPr/>
          <p:nvPr/>
        </p:nvSpPr>
        <p:spPr>
          <a:xfrm>
            <a:off x="914400" y="6019920"/>
            <a:ext cx="7848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"Innovation Lightbulb." Digital Image</a:t>
            </a:r>
            <a:r>
              <a:rPr b="0" i="1" lang="en-US" sz="1400" spc="-1" strike="noStrike">
                <a:solidFill>
                  <a:srgbClr val="003366"/>
                </a:solidFill>
                <a:latin typeface="Arial"/>
              </a:rPr>
              <a:t>. Department of Health and Human Services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. Retrieved from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http://www.hhs.gov/open/initiatives/innovationfellows/index.htm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571680" y="114480"/>
            <a:ext cx="8228520" cy="53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Arial"/>
              </a:rPr>
              <a:t>References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3120" y="761760"/>
            <a:ext cx="80802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Bhabha, H. K. (1994).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The location of culture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. New York: Routledge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arst, Anna. “Lone star.” Digital Image. Used with permission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"Innovation Lightbulb." Digital Image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. Department of Health and Human Services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. Retrieved from http://www.hhs.gov/open/initiatives/innovationfellows/index.html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Kuhlthau, C. C. (1994).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Teaching the research process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.  New York: The Center for Applied Research in Education, 2</a:t>
            </a:r>
            <a:r>
              <a:rPr b="0" lang="en-US" sz="2000" spc="-1" strike="noStrike" baseline="30000">
                <a:solidFill>
                  <a:srgbClr val="003366"/>
                </a:solidFill>
                <a:latin typeface="Arial"/>
              </a:rPr>
              <a:t>nd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ed. Scarecrow Press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Kuhlthau, C. C. (2004).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Seeking meaning: A process approach to library and information science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. 2</a:t>
            </a:r>
            <a:r>
              <a:rPr b="0" lang="en-US" sz="2000" spc="-1" strike="noStrike" baseline="30000">
                <a:solidFill>
                  <a:srgbClr val="003366"/>
                </a:solidFill>
                <a:latin typeface="Arial"/>
              </a:rPr>
              <a:t>nd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ed. Westport, CT: Libraries Unlimited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Kuhlthau, C. C., Maniotes, L. K., &amp; Caspari, A. K. (2012).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Guided inquiry: Learning in the 21</a:t>
            </a:r>
            <a:r>
              <a:rPr b="0" i="1" lang="en-US" sz="2000" spc="-1" strike="noStrike" baseline="30000">
                <a:solidFill>
                  <a:srgbClr val="003366"/>
                </a:solidFill>
                <a:latin typeface="Arial"/>
              </a:rPr>
              <a:t>st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 century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. Westport, CT: Libraries Unlimited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709560" y="633240"/>
            <a:ext cx="8138520" cy="33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Arial"/>
              </a:rPr>
              <a:t>References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152280" y="1143000"/>
            <a:ext cx="8686800" cy="601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Lankes, R. D. (2011).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The atlas of new librarianship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. Cambridge, MA: The MIT Press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Maniotes, L. K.  (2005).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The transformative power of literary third space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. Unpublished Dissertation, University of Colorado, Boulder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mith, E. G. (2001).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Texas school libraries: Standards, resources, services and students’ performance.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Retrieved from https://www.tsl.state.tx.us/ld/pubs/schlibsurvey/index.html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Walters, T., &amp; Skinner, K. (2011). New roles for new times: Digital curation for preservation.  Washington, D.C.: Association of Research Libraries, Retrieved from http://www.arl.org/bm~doc/nrnt_digital_curation17mar11.pdf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Word clouds. Created at Wordle.ne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Zmuda, A., &amp; Harada, V. H. Harada. (2008).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Librarians as learning specialists: Meeting the imperative for the 21st century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. Westport, CT: Libraries Unlimited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Box 2"/>
          <p:cNvSpPr/>
          <p:nvPr/>
        </p:nvSpPr>
        <p:spPr>
          <a:xfrm>
            <a:off x="685800" y="1176480"/>
            <a:ext cx="8305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9966"/>
                </a:solidFill>
                <a:latin typeface="Arial"/>
              </a:rPr>
              <a:t>Elementary School Library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219320" y="3006720"/>
            <a:ext cx="7238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3366"/>
                </a:solidFill>
                <a:latin typeface="Arial"/>
              </a:rPr>
              <a:t>YES, WE DID!</a:t>
            </a:r>
            <a:endParaRPr b="0" lang="en-US" sz="6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Box 2"/>
          <p:cNvSpPr/>
          <p:nvPr/>
        </p:nvSpPr>
        <p:spPr>
          <a:xfrm>
            <a:off x="685800" y="1176480"/>
            <a:ext cx="8305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9966"/>
                </a:solidFill>
                <a:latin typeface="Arial"/>
              </a:rPr>
              <a:t>Middle School Library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TextBox 4"/>
          <p:cNvSpPr/>
          <p:nvPr/>
        </p:nvSpPr>
        <p:spPr>
          <a:xfrm>
            <a:off x="1219320" y="3006720"/>
            <a:ext cx="7238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3366"/>
                </a:solidFill>
                <a:latin typeface="Arial"/>
              </a:rPr>
              <a:t>YES, WE DID!</a:t>
            </a:r>
            <a:endParaRPr b="0" lang="en-US" sz="6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Box 2"/>
          <p:cNvSpPr/>
          <p:nvPr/>
        </p:nvSpPr>
        <p:spPr>
          <a:xfrm>
            <a:off x="685800" y="1176480"/>
            <a:ext cx="8305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9966"/>
                </a:solidFill>
                <a:latin typeface="Arial"/>
              </a:rPr>
              <a:t>Public Library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TextBox 4"/>
          <p:cNvSpPr/>
          <p:nvPr/>
        </p:nvSpPr>
        <p:spPr>
          <a:xfrm>
            <a:off x="1219320" y="3006720"/>
            <a:ext cx="7238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3366"/>
                </a:solidFill>
                <a:latin typeface="Arial"/>
              </a:rPr>
              <a:t>YES, WE DID!</a:t>
            </a:r>
            <a:endParaRPr b="0" lang="en-US" sz="6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Box 2"/>
          <p:cNvSpPr/>
          <p:nvPr/>
        </p:nvSpPr>
        <p:spPr>
          <a:xfrm>
            <a:off x="685800" y="1176480"/>
            <a:ext cx="8305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9966"/>
                </a:solidFill>
                <a:latin typeface="Arial"/>
              </a:rPr>
              <a:t>High School Library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TextBox 4"/>
          <p:cNvSpPr/>
          <p:nvPr/>
        </p:nvSpPr>
        <p:spPr>
          <a:xfrm>
            <a:off x="1219320" y="3006720"/>
            <a:ext cx="7238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3366"/>
                </a:solidFill>
                <a:latin typeface="Arial"/>
              </a:rPr>
              <a:t>YES, WE DID!</a:t>
            </a:r>
            <a:endParaRPr b="0" lang="en-US" sz="6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Box 2"/>
          <p:cNvSpPr/>
          <p:nvPr/>
        </p:nvSpPr>
        <p:spPr>
          <a:xfrm>
            <a:off x="685800" y="1176480"/>
            <a:ext cx="8305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9966"/>
                </a:solidFill>
                <a:latin typeface="Arial"/>
              </a:rPr>
              <a:t>Community College Library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" name="TextBox 4"/>
          <p:cNvSpPr/>
          <p:nvPr/>
        </p:nvSpPr>
        <p:spPr>
          <a:xfrm>
            <a:off x="1219320" y="3006720"/>
            <a:ext cx="7238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3366"/>
                </a:solidFill>
                <a:latin typeface="Arial"/>
              </a:rPr>
              <a:t>YES, WE DID!</a:t>
            </a:r>
            <a:endParaRPr b="0" lang="en-US" sz="6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Box 2"/>
          <p:cNvSpPr/>
          <p:nvPr/>
        </p:nvSpPr>
        <p:spPr>
          <a:xfrm>
            <a:off x="685800" y="1176480"/>
            <a:ext cx="8305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9966"/>
                </a:solidFill>
                <a:latin typeface="Arial"/>
              </a:rPr>
              <a:t>University Library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TextBox 4"/>
          <p:cNvSpPr/>
          <p:nvPr/>
        </p:nvSpPr>
        <p:spPr>
          <a:xfrm>
            <a:off x="1219320" y="3006720"/>
            <a:ext cx="7238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3366"/>
                </a:solidFill>
                <a:latin typeface="Arial"/>
              </a:rPr>
              <a:t>YES, WE DID!</a:t>
            </a:r>
            <a:endParaRPr b="0" lang="en-US" sz="6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12T22:20:15Z</dcterms:created>
  <dc:creator>Judi Moreillon</dc:creator>
  <dc:description/>
  <dc:language>en-US</dc:language>
  <cp:lastModifiedBy>Judi Moreillon</cp:lastModifiedBy>
  <dcterms:modified xsi:type="dcterms:W3CDTF">2013-04-25T01:27:18Z</dcterms:modified>
  <cp:revision>787</cp:revision>
  <dc:subject/>
  <dc:title>TLA08</dc:title>
</cp:coreProperties>
</file>