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530414-6DA3-4A33-BCAB-601C8B8FC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5954748-7F61-4BD4-BC4C-B898946C625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performance based software that we created at UNT. Using active learning component, catalog searching went up to a 38% success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9AC9751-5FDB-47C1-B572-0D63BE86A2A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F0B70A3-7401-4C83-AFA4-88B57E85E68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Kuhlthau (and her daughters) built on the ISP by adding a guided inquiry design framework that invites educators to join the process by guiding and encouraging inqui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hlthau, C.C., Maniotes, L.K. &amp; Caspari, A. K. (2012). Guided inquiry design: A framework for inquiry in your school. Santa Barbara, CA: Libraries Unlimited/ABC-CL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126D32-64CA-4FC9-B85A-4B788EE11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3936960" y="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11/20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1063F8C-A23D-48F6-9AE1-8A6D726D1EB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FD88C27-FB8B-4A33-B32D-F300635F0DD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17E45BC-7B42-426C-A291-D725FD0A749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B6846E5-986E-419A-8541-824FA3093EF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BD9FF92-97A2-423F-9D7F-F772D115767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CB5751D-9DC3-46F1-BDF2-7B67B58038D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743C258-5A7B-432A-937E-AF438AB7E80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5BEA488-B7AE-4FA3-BFA2-E9E532148C6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8D4-2F00-41B6-9F66-F9B9B7DB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411-81E8-44B0-9F0F-FAC0CB69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E27-CD64-4CBE-91A3-01A22D0C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180D-A1F8-4EA5-AB05-B867DDCF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4C42-A905-49A5-9FB8-87FF2C14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537B-A9B4-48DB-BB7F-A23E95B4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D8B5-E304-4E13-AA99-9CAC877A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3320-FCBF-4B46-9E29-1859CACE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CDE2-D46E-498F-9593-E528EC10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1E9D-4E0B-4035-A52E-98062832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7389-DA1E-483A-89FF-73445D3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DD98-5447-4217-98BC-B823A2C8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81D2-C4FB-43DE-9AA8-51C49B7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4BF1-3245-4C77-A80D-12E505D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E1D9-2A3F-4143-8E23-BD2702B7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2CB1-B9FC-462F-A033-556781EA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6BC7-0213-48FA-A3C4-511CA426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B52-B3FE-45DD-9596-23B2A0FC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E5E1-740B-4C31-9731-3DA4AD3C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201-9EDB-4F3E-85D7-7E9A8417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77B-2604-4453-A82D-3427803A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677-4460-4705-A953-D0707458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9F7-1D59-4A39-9945-83F38B62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7F26-13A1-458A-AC9E-FB91CFF9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98A-700D-4A1A-A71D-97AA6738A45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A5F3-0475-4E41-98CB-CC6810E0C2E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ksalign.pbwork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Vocabulary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677880" y="9716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are your library valu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03240" y="228600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ellectual Freed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ite your TOP value (#1) on the card 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r chai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ss the card to the center ais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ashtags for this presentation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txla13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621400" y="55515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143000" y="1055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shmen Library Instruction 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6080" y="2590920"/>
          <a:ext cx="7547040" cy="2889000"/>
        </p:xfrm>
        <a:graphic>
          <a:graphicData uri="http://schemas.openxmlformats.org/drawingml/2006/table">
            <a:tbl>
              <a:tblPr/>
              <a:tblGrid>
                <a:gridCol w="1974960"/>
                <a:gridCol w="1685880"/>
                <a:gridCol w="1622160"/>
                <a:gridCol w="2264040"/>
              </a:tblGrid>
              <a:tr h="766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 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talog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4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1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8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53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ademic Search Premi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.4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9.6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7.4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500800" y="5581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9072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search Found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845320" y="3124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4560" y="47880"/>
            <a:ext cx="798084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uided Inquiry Design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9000" y="990720"/>
          <a:ext cx="8955000" cy="5813280"/>
        </p:xfrm>
        <a:graphic>
          <a:graphicData uri="http://schemas.openxmlformats.org/drawingml/2006/table">
            <a:tbl>
              <a:tblPr/>
              <a:tblGrid>
                <a:gridCol w="2577960"/>
                <a:gridCol w="1519200"/>
                <a:gridCol w="1790640"/>
                <a:gridCol w="3067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 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of IS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of Guided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quiry Co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ng the research projec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vitation to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 mi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imulate curios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ng a top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mer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ild background knowled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ing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 interesting ide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ng a foc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use and pon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 inquiry ques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ng information on focus and seeking mea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 important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 broad, go dee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paring to pres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e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5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ing the proces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 achieve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process/cont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,1994; Maniotes,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010640" cy="3967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4" name="TextBox 1"/>
          <p:cNvSpPr/>
          <p:nvPr/>
        </p:nvSpPr>
        <p:spPr>
          <a:xfrm>
            <a:off x="5486400" y="5638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ne Star by Anna Dar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696960" y="1954080"/>
            <a:ext cx="8343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-20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ertical Alignment of Research Skill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the Texas Library Associatio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ed by th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nton Inquiry 4 Lifelong Learning Te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p.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&amp; Skinner,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2438280"/>
            <a:ext cx="7772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greatest asset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ny library has is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 librarian”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Lankes, 2011, p. 29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62680" y="152280"/>
            <a:ext cx="2666880" cy="15112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5257800" y="5638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5410080" y="5562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A-R TEKS Rig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Inquiry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tand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xample: 1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590920"/>
          <a:ext cx="8153640" cy="3962160"/>
        </p:xfrm>
        <a:graphic>
          <a:graphicData uri="http://schemas.openxmlformats.org/drawingml/2006/table">
            <a:tbl>
              <a:tblPr/>
              <a:tblGrid>
                <a:gridCol w="1295640"/>
                <a:gridCol w="6858000"/>
              </a:tblGrid>
              <a:tr h="3962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§110.34.b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ading/Comprehension of Literary Text/Theme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nd Genre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udents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analyz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make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ference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draw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conclusion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bout theme and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enre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 different cultural, historical, and contemporary contexts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provide evidenc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)  relate the characters, setting, and theme of a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terary work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istorical, social, and economic idea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f its time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nton Inquiry 4 Lifelong Learning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936720" y="4495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dentoninquiry4lifelonglearning.wikispaces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950760" y="9716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LA-R TEKS Alignment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914400" y="4038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eksalign.pbworks.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270240" y="2427120"/>
            <a:ext cx="28954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udging Toward Inqui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524240" cy="1995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1278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Publ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762120" y="2362320"/>
            <a:ext cx="8381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age your Homeschool Popu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topic they already intend to study and work with the parents on how the library can hel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meeting time that is best for them and work in a group setting on a weekly ba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ite parents and siblings to a program where the students share their wor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the process with the students at your last meet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066680" y="117144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219320" y="251460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y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nie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yLa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800600" y="125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Academ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14400" y="2666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stud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facult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762120" y="76032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br>
              <a:rPr sz="36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xas Woman’s Univers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762120" y="2362320"/>
            <a:ext cx="83818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S5443: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brarians as Instructional Partn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ork in partners to conduct an inquiry into various inquiry and research model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velop Web 2.0 presentations to persuade an audience to teach and apply the mode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 on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I4LL Wiki Vocabulary Pa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762120" y="7430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iversity of North Tex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762120" y="236232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uct an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student achievement  (TEKS, STA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pare a collaborative school library 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dvance achievement through guided inqui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an be tie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te standar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learly identifies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brari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assroom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for Gran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181160" y="2514600"/>
            <a:ext cx="6832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from the Pane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Our Shared Valu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133720" y="2895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dle from the Participants’ Car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77880" y="1219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5486400" y="4724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and (Some) Answ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905120" y="28954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rom the Participa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003400" y="2413080"/>
            <a:ext cx="4930920" cy="3271680"/>
          </a:xfrm>
          <a:prstGeom prst="rect">
            <a:avLst/>
          </a:prstGeom>
          <a:ln w="25560">
            <a:solidFill>
              <a:srgbClr val="33cccc"/>
            </a:solidFill>
            <a:miter/>
          </a:ln>
        </p:spPr>
      </p:pic>
      <p:sp>
        <p:nvSpPr>
          <p:cNvPr id="185" name="TextBox 2"/>
          <p:cNvSpPr/>
          <p:nvPr/>
        </p:nvSpPr>
        <p:spPr>
          <a:xfrm>
            <a:off x="914400" y="6019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Retrieved from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www.hhs.gov/open/initiatives/innovationfellow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71680" y="114480"/>
            <a:ext cx="822852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120" y="761760"/>
            <a:ext cx="8080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. K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rst, Anna. “Lone star.” Digital Image. Used with permis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Retrieved from http://www.hhs.gov/open/initiatives/innovationfellows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200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, Maniotes, L. K., &amp; Caspari, A. K. (2012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09560" y="633240"/>
            <a:ext cx="8138520" cy="33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11430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kes, R. D. (201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atlas of new librarianshi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Cambridge, MA: The MIT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. K.  (2005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transformative power of literary third sp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Unpublished Dissertation, University of Colorado, Boul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. G. (200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rieved from https://www.tsl.state.tx.us/ld/pubs/schlibsurvey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., &amp; Skinner, K. (2011). New roles for new times: Digital curation for preservation.  Washington, D.C.: Association of Research Libraries, Retrieved from http://www.arl.org/bm~doc/nrnt_digital_curation17mar11.pd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rd clouds. Created at Wordle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., &amp; Harada, V. H. Harada. (2008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Elementary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Middle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Public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High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Community College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University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3-04-25T01:27:18Z</dcterms:modified>
  <cp:revision>787</cp:revision>
  <dc:subject/>
  <dc:title>TLA08</dc:title>
</cp:coreProperties>
</file>