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48488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3660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221E18C-AB60-4ED7-A772-971677980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E8E8E5-8C57-49EC-907F-52B5A551502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performance based software that we created at UNT. Using active learning component, catalog searching went up to a 38% success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F762D14-91F6-4509-83F0-EB71D71C786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8B94372-6184-4EAE-A8F5-9DA32914735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n Kuhlthau (and her daughters) built on the ISP by adding a guided inquiry design framework that invites educators to join the process by guiding and encouraging inqui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hlthau, C.C., Maniotes, L.K. &amp; Caspari, A. K. (2012). Guided inquiry design: A framework for inquiry in your school. Santa Barbara, CA: Libraries Unlimited/ABC-CLI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C2F5501-2896-460D-99BC-0A32DD7CD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Date Placeholder 4"/>
          <p:cNvSpPr/>
          <p:nvPr/>
        </p:nvSpPr>
        <p:spPr>
          <a:xfrm>
            <a:off x="3936960" y="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1/201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192C61D-ECFA-4992-A734-F57BC4C88B9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45422E2-1FE0-4D85-8AA5-06E33A75217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65CC2E-E25D-4045-9B98-E5BC2F072CF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1AFB4F8-38FA-4854-8E12-37D5C8282A6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ABBD4C-B968-4067-A882-58086F2B889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9B7C9B2-D970-4E42-991B-70C88D328CE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2EE1AB-1953-404E-B8FA-273D883EE22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36960" y="88074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3D23231-F35B-44F5-AA20-4802C93E30F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740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25200" y="4403880"/>
            <a:ext cx="50958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BB7-D7D9-4312-A072-7175F43E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04E-5AE1-46AF-926A-BE299605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4EE-6CD4-498A-9803-26495754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C030-0034-412F-A32A-3EFDCA80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5711-ED3B-43D9-BD64-4FAD99CE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496C-F16E-4E26-B6C5-89671BE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49E0-1CCE-4B02-8C7F-E0E8CEE8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BC2-17E5-49B4-AA93-106109BE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6E06-C23F-40CD-993B-F436C1A5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BAE7-78EC-4A62-BEBD-AD9676D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491D-C588-4F47-9D24-7988BC9D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1E6B-DACA-4F71-9FF5-4103403E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9823-A4A6-4886-976D-4F89AA8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D0EC-BD45-48A5-B87B-A19E0178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4DD3-0D48-4F3E-9016-8D7D9C12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62D-88F9-4848-8DBF-F7E5379D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84C0-AA08-4A24-B33F-10F008369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1464-2176-4043-A85D-2B830B28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AD5-7884-41D4-9987-4E478F57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2F0-8200-4212-9D4C-14374070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C57-8DA1-462A-9577-D3BDDD6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F88-C8F9-4E3E-A729-5B4A357E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6C7-CC8C-4B6E-B877-A1020343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EE8E-9A67-48F9-AAB0-82E41798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0F05-732D-48B6-9DC7-4701F3596E6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9C7C-4995-48C7-BE8A-75BB60EB424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ksalign.pbwork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dentoninquiry4lifelonglearning.wikispaces.com/Vocabulary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677880" y="9716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are your library values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03240" y="2286000"/>
            <a:ext cx="8077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ite your TOP value (#1) on the card 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r chai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ss the card to the center ais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ashtags for this presentation: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txla13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#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5621400" y="55515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143000" y="1055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Freshmen Library Instruction  Resul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16080" y="2590920"/>
          <a:ext cx="7547040" cy="2889000"/>
        </p:xfrm>
        <a:graphic>
          <a:graphicData uri="http://schemas.openxmlformats.org/drawingml/2006/table">
            <a:tbl>
              <a:tblPr/>
              <a:tblGrid>
                <a:gridCol w="1974960"/>
                <a:gridCol w="1685880"/>
                <a:gridCol w="1622160"/>
                <a:gridCol w="2264040"/>
              </a:tblGrid>
              <a:tr h="766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ost post-tes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8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talog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24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.1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.8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53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ademic Search Premier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.4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9.69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.4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143000" y="105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at's the deal with DI4LL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"/>
          <p:cNvSpPr/>
          <p:nvPr/>
        </p:nvSpPr>
        <p:spPr>
          <a:xfrm>
            <a:off x="5500800" y="5581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990720" y="9907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nton Inquiry Stud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19320" y="2438280"/>
            <a:ext cx="72388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esearch Found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Barbara Schultz-Jones,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ociate Professor, University of North Tex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r. Judi Moreill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istant Professor, Texas Woman’s Univers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ive - Feel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gnitive -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- 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14040" y="1980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formation Search Process (ISP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l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64620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1985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845320" y="3124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4560" y="47880"/>
            <a:ext cx="7980840" cy="66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uided Inquiry Design Framewor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9000" y="990720"/>
          <a:ext cx="8955000" cy="5813280"/>
        </p:xfrm>
        <a:graphic>
          <a:graphicData uri="http://schemas.openxmlformats.org/drawingml/2006/table">
            <a:tbl>
              <a:tblPr/>
              <a:tblGrid>
                <a:gridCol w="2577960"/>
                <a:gridCol w="1519200"/>
                <a:gridCol w="1790640"/>
                <a:gridCol w="306720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 A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e of IS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of Guided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quiry Co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ng the research projec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vitation to inquir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 min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imulate curios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ng a top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mer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uild background knowled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ing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lore interesting ide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ng a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rmul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use and pon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fy inquiry ques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ng information on focus and seeking mea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llec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ather important inform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 broad, go dee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paring to pres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e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hare learn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65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ing the proces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valuate achieve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flect on process/cont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Zone of Intervention </a:t>
            </a:r>
            <a:br>
              <a:rPr sz="36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sed on the Zone of Proximal Development (Vygotsky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dult facilitator intervention needed throughout the inquiry proc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Kuhlthau, 2004)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00360" y="977040"/>
            <a:ext cx="802836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quiry: A Research-based Strate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space” - Negotiat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chool curriculum (2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 that is relevant to personal outside-of-school experience (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spa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-3052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Bhabha,1994; Maniotes, 2005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7010640" cy="396720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  <p:sp>
        <p:nvSpPr>
          <p:cNvPr id="144" name="TextBox 1"/>
          <p:cNvSpPr/>
          <p:nvPr/>
        </p:nvSpPr>
        <p:spPr>
          <a:xfrm>
            <a:off x="5486400" y="5638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ne Star by Anna Dar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4"/>
          <p:cNvSpPr/>
          <p:nvPr/>
        </p:nvSpPr>
        <p:spPr>
          <a:xfrm>
            <a:off x="696960" y="1954080"/>
            <a:ext cx="8343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-20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ertical Alignment of Research Skill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 the Texas Library Association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sented by th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nton Inquiry 4 Lifelong Learning Tea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4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 librarians’ effectiveness as educators may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nge on being considered a peer by classroom teacher colleagues and equals with classroom teachers by administrators.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Zmuda and Harada attest, “Effective partnerships help teachers to meet their existing priorities, which include the implementation of a standards-based curriculum” (2008, p. 38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360" y="829440"/>
            <a:ext cx="852120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acti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/instructional partners in learning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ces is the second on a new list of abilities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academic librarians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Walters &amp; Skinner, 2011)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762120" y="2438280"/>
            <a:ext cx="77724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greatest asset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ny library has is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librarian”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(Lankes, 2011, p. 29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5062680" y="152280"/>
            <a:ext cx="2666880" cy="151128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benefits_students2_sized"/>
          <p:cNvPicPr/>
          <p:nvPr/>
        </p:nvPicPr>
        <p:blipFill>
          <a:blip r:embed="rId1"/>
          <a:stretch/>
        </p:blipFill>
        <p:spPr>
          <a:xfrm>
            <a:off x="835200" y="914400"/>
            <a:ext cx="7705440" cy="43894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"/>
          <p:cNvSpPr/>
          <p:nvPr/>
        </p:nvSpPr>
        <p:spPr>
          <a:xfrm>
            <a:off x="5257800" y="5638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benefits_educators1_sized.jpg"/>
          <p:cNvPicPr/>
          <p:nvPr/>
        </p:nvPicPr>
        <p:blipFill>
          <a:blip r:embed="rId1"/>
          <a:stretch/>
        </p:blipFill>
        <p:spPr>
          <a:xfrm>
            <a:off x="585720" y="963720"/>
            <a:ext cx="7893000" cy="405288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5410080" y="556272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-9000" y="67320"/>
            <a:ext cx="8521560" cy="93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                          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LA-R TEKS Rig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Readin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196666"/>
                </a:solidFill>
                <a:latin typeface="Arial"/>
              </a:rPr>
              <a:t>Inquiry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Standard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xample: 1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590920"/>
          <a:ext cx="8153640" cy="3962160"/>
        </p:xfrm>
        <a:graphic>
          <a:graphicData uri="http://schemas.openxmlformats.org/drawingml/2006/table">
            <a:tbl>
              <a:tblPr/>
              <a:tblGrid>
                <a:gridCol w="1295640"/>
                <a:gridCol w="6858000"/>
              </a:tblGrid>
              <a:tr h="3962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§110.34.b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Reading/Comprehension of Literary Text/Theme 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nd Genre.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tudents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analyz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 make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ferenc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draw</a:t>
                      </a:r>
                      <a:r>
                        <a:rPr b="1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conclusion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about theme and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genre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n different cultural, historical, and contemporary contexts and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provide evidenc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)  relate the characters, setting, and theme of a </a:t>
                      </a: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terary work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 the </a:t>
                      </a: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historical, social, and economic idea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of its time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nton Inquiry 4 Lifelong Learning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936720" y="44956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dentoninquiry4lifelonglearning.wikispaces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819520" y="236232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950760" y="971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LA-R TEKS Alignment Wik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914400" y="4038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eksalign.pbworks.com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3270240" y="2427120"/>
            <a:ext cx="28954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udging Toward Inqui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524240" cy="19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1278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Publ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762120" y="2362320"/>
            <a:ext cx="838188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age your Homeschool Po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topic they already intend to study and work with the parents on how the library can hel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nd a meeting time that is best for them and work in a group setting on a weekly bas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ite parents and siblings to a program where the students share their wor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e the process with the students at your last meeting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1066680" y="117144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ntroduction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219320" y="2514600"/>
            <a:ext cx="7238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y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r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l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yLai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u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800600" y="1252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the Academic Librar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14400" y="266688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stud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king with facult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762120" y="76032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br>
              <a:rPr sz="36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xas Woman’s Univers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762120" y="2362320"/>
            <a:ext cx="83818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S5443: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ibrarians as Instructional Partn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ork in partners to conduct an inquiry into various inquiry and research models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velop Web 2.0 presentations to persuade an audience to teach and apply the mode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amples on 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DI4LL Wiki Vocabulary Pag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62120" y="743040"/>
            <a:ext cx="8381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Inquiry in Library Educatio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iversity of North Texa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762120" y="2362320"/>
            <a:ext cx="8076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duct an assess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student achievement  (TEKS, STA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epare a collaborative school library pl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advance achievement through guided inqui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an be tie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tate standar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plan that clearly identifies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ibraria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role of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assroom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pplying for Gran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1181160" y="2514600"/>
            <a:ext cx="6832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from the Pane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Our Shared Value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133720" y="2895480"/>
            <a:ext cx="541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ordle from the Participants’ Card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77880" y="1219320"/>
            <a:ext cx="8229600" cy="30956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3"/>
          <p:cNvSpPr/>
          <p:nvPr/>
        </p:nvSpPr>
        <p:spPr>
          <a:xfrm>
            <a:off x="5486400" y="47242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reated at Wordle.n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762120" y="1066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Questions and (Some) Answer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1905120" y="28954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From the Participa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2003400" y="2413080"/>
            <a:ext cx="4930920" cy="3271680"/>
          </a:xfrm>
          <a:prstGeom prst="rect">
            <a:avLst/>
          </a:prstGeom>
          <a:ln w="25560">
            <a:solidFill>
              <a:srgbClr val="33cccc"/>
            </a:solidFill>
            <a:miter/>
          </a:ln>
        </p:spPr>
      </p:pic>
      <p:sp>
        <p:nvSpPr>
          <p:cNvPr id="185" name="TextBox 2"/>
          <p:cNvSpPr/>
          <p:nvPr/>
        </p:nvSpPr>
        <p:spPr>
          <a:xfrm>
            <a:off x="914400" y="601992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. Retrieved from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www.hhs.gov/open/initiatives/innovationfellow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71680" y="114480"/>
            <a:ext cx="8228520" cy="5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120" y="761760"/>
            <a:ext cx="80802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habha, H. K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location of cultur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New York: Routle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rst, Anna. “Lone star.” Digital Image. Used with permiss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"Innovation Lightbulb." Digital Image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. Department of Health and Human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Retrieved from http://www.hhs.gov/open/initiatives/innovationfellows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199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aching the research proces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 New York: The Center for Applied Research in Education,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Scarecrow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 (2004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eeking meaning: A process approach to library and information scien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uhlthau, C. C., Maniotes, L. K., &amp; Caspari, A. K. (2012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ided inquiry: Learning in the 21</a:t>
            </a:r>
            <a:r>
              <a:rPr b="0" i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09560" y="633240"/>
            <a:ext cx="8138520" cy="33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52280" y="11430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nkes, R. D. (201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tlas of new librarianshi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Cambridge, MA: The MIT Pres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iotes, L. K.  (2005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transformative power of literary third sp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published Dissertation, University of Colorado, Boul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mith, E. G. (2001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xas school libraries: Standards, resources, services and students’ performance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rieved from https://www.tsl.state.tx.us/ld/pubs/schlibsurvey/index.htm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lters, T., &amp; Skinner, K. (2011). New roles for new times: Digital curation for preservation.  Washington, D.C.: Association of Research Libraries, Retrieved from http://www.arl.org/bm~doc/nrnt_digital_curation17mar11.pd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rd clouds. Created at Wordle.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muda, A., &amp; Harada, V. H. Harada. (2008)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brarians as learning specialists: Meeting the imperative for the 21st centu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Westport, CT: Libraries Unlimited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Elementary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Middle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Public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High School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Community College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2"/>
          <p:cNvSpPr/>
          <p:nvPr/>
        </p:nvSpPr>
        <p:spPr>
          <a:xfrm>
            <a:off x="685800" y="1176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University Library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219320" y="30067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YES, WE DI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2:20:15Z</dcterms:created>
  <dc:creator>Judi Moreillon</dc:creator>
  <dc:description/>
  <dc:language>en-US</dc:language>
  <cp:lastModifiedBy>Judi Moreillon</cp:lastModifiedBy>
  <dcterms:modified xsi:type="dcterms:W3CDTF">2013-04-25T01:27:18Z</dcterms:modified>
  <cp:revision>787</cp:revision>
  <dc:subject/>
  <dc:title>TLA08</dc:title>
</cp:coreProperties>
</file>