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3660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FBA6ACE-FD38-4500-9851-2D60BE83E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E6BD9D-E14B-4497-9580-77F12DACA1E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performance based software that we created at UNT. Using active learning component, catalog searching went up to a 38% success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A531981-CFAC-422A-9880-454A016C4A1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0FD45B1-B9A4-4D82-8DA5-54E1A405469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Kuhlthau (and her daughters) built on the ISP by adding a guided inquiry design framework that invites educators to join the process by guiding and encouraging inqui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hlthau, C.C., Maniotes, L.K. &amp; Caspari, A. K. (2012). Guided inquiry design: A framework for inquiry in your school. Santa Barbara, CA: Libraries Unlimited/ABC-CL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58D6A25-2331-4751-8F5E-CBEB7A00C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3936960" y="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/11/20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071592A-E68C-4F25-9599-DC36BC5C24A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EE28C33-E528-4154-A0BE-52723BC53ED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DF031DB-46E5-42DD-B194-8B7A8BCC2D1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5155CB2-27C7-482F-B51E-ADCB29DA65C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479BFFA-53BD-430D-95CE-998E6137644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070670E-F152-4896-97D2-FB675982B9F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FE9C400-BF45-47C7-9ABB-7ABD67D246D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15AD2F9-24F0-4E59-A788-F824F443172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E3B-737B-4E68-99C3-9E81A052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79C-7E57-4EA6-8880-62CD3F87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D97-C6FF-442F-A5BD-771D457B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447-400D-4508-A40E-E66EF07C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B534-694B-4604-BB27-3AEF8DDB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F829-4316-424A-BD4F-6714825C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86AE-DD9A-4D67-AE02-D847CC4D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3634-3E47-4E9E-A7EC-E6B2B50A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5994-D579-44E4-9128-5D87854F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96A8-B054-4B89-8CEB-44EE11FB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6279-E3E2-45E2-BB66-7F3425F9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9E9-E6E4-4A08-86E6-C97B4665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5D29-A921-4ACE-B4E4-2378F52C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A2EF-F5F8-4F93-9CC0-D9509EF8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4C2C-43A6-42A5-8898-0193F6BC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7DD7-3D4D-4E97-A3B1-52920D24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A6BC-460E-426B-8E28-C49C1C50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A61-709A-4C28-B4F6-AF97D8C6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B8C-C09D-449D-B064-FED19C25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E9D-5A99-4BC5-80F1-81CB44CE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927-5D68-4379-BB2D-A464687E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0E7-ED18-48EE-BCBD-0DB952D6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D13-B771-43A6-97DA-1297A09B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4EAD-06A9-41E6-B427-9A482055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3111-A845-4537-A7D1-A0F48960734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DBD1-061B-40D0-9CF1-494D6A63E79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dentoninquiry4lifelonglearning.wikispac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ksalign.pbwork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dentoninquiry4lifelonglearning.wikispaces.com/Vocabulary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677880" y="9716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are your library valu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03240" y="228600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ellectual Freedo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ite your TOP value (#1) on the card o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your chai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ss the card to the center ais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ashtags for this presentation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#txla13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#di4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143000" y="105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at's the deal with DI4LL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5621400" y="55515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143000" y="1055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shmen Library Instruction 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16080" y="2590920"/>
          <a:ext cx="7547040" cy="2889000"/>
        </p:xfrm>
        <a:graphic>
          <a:graphicData uri="http://schemas.openxmlformats.org/drawingml/2006/table">
            <a:tbl>
              <a:tblPr/>
              <a:tblGrid>
                <a:gridCol w="1974960"/>
                <a:gridCol w="1685880"/>
                <a:gridCol w="1622160"/>
                <a:gridCol w="2264040"/>
              </a:tblGrid>
              <a:tr h="766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t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t post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8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atalog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4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.1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8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53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ademic Search Premi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.4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9.6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7.4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143000" y="105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at's the deal with DI4LL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5500800" y="5581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990720" y="9907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nton Inquiry Stud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219320" y="2438280"/>
            <a:ext cx="7238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search Found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Barbara Schultz-Jones,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ociate Professor, University of North Tex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Judi Moreill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istant Professor, Texas Woman’s Univer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ive - Feel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gnitive -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ysical - 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845320" y="3124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14560" y="47880"/>
            <a:ext cx="798084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uided Inquiry Design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9000" y="990720"/>
          <a:ext cx="8955000" cy="5813280"/>
        </p:xfrm>
        <a:graphic>
          <a:graphicData uri="http://schemas.openxmlformats.org/drawingml/2006/table">
            <a:tbl>
              <a:tblPr/>
              <a:tblGrid>
                <a:gridCol w="2577960"/>
                <a:gridCol w="1519200"/>
                <a:gridCol w="1790640"/>
                <a:gridCol w="30672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  A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of IS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of Guided Inqui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quiry Co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ng the research projec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vitation to inqui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 min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imulate curios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ng a topi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mer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ild background knowled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ing Inform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e interesting ide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ulating a focu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ul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f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use and pond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fy inquiry ques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llecting information on focus and seeking mea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lle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th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ther important inform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o broad, go dee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paring to pres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e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lect on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e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5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ssing the proces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te achieve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lect on process/cont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Zone of Intervention 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the Zone of Proximal Development (Vygotsky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ult facilitator intervention needed throughout the inquiry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2004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space” - Negotia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curriculum (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 that is relevant to personal outside-of-school experience (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Bhabha,1994; Maniotes, 200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7010640" cy="3967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44" name="TextBox 1"/>
          <p:cNvSpPr/>
          <p:nvPr/>
        </p:nvSpPr>
        <p:spPr>
          <a:xfrm>
            <a:off x="5486400" y="5638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ne Star by Anna Dar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696960" y="1954080"/>
            <a:ext cx="8343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-20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ertical Alignment of Research Skill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the Texas Library Associatio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nted by th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nton Inquiry 4 Lifelong Learning Tea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4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689040" y="1522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librarians’ effectiveness as educators ma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nge on being considered a peer by classroom teacher colleagues and equals with classroom teachers by administrator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Zmuda and Harada attest, “Effective partnerships help teachers to meet their existing priorities, which include the implementation of a standards-based curriculum” (2008, p. 38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360" y="829440"/>
            <a:ext cx="852120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/instructional partners in learning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es is the second on a new list of abilities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cademic librarian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Walters &amp; Skinner, 2011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2438280"/>
            <a:ext cx="7772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greatest asset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ny library has is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 librarian”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Lankes, 2011, p. 29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062680" y="152280"/>
            <a:ext cx="2666880" cy="151128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benefits_students2_sized"/>
          <p:cNvPicPr/>
          <p:nvPr/>
        </p:nvPicPr>
        <p:blipFill>
          <a:blip r:embed="rId1"/>
          <a:stretch/>
        </p:blipFill>
        <p:spPr>
          <a:xfrm>
            <a:off x="835200" y="914400"/>
            <a:ext cx="7705440" cy="4389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5257800" y="5638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benefits_educators1_sized.jpg"/>
          <p:cNvPicPr/>
          <p:nvPr/>
        </p:nvPicPr>
        <p:blipFill>
          <a:blip r:embed="rId1"/>
          <a:stretch/>
        </p:blipFill>
        <p:spPr>
          <a:xfrm>
            <a:off x="585720" y="963720"/>
            <a:ext cx="7893000" cy="40528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5410080" y="55627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A-R TEKS Rig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a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196666"/>
                </a:solidFill>
                <a:latin typeface="Arial"/>
              </a:rPr>
              <a:t>Inquiry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tandar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xample: 1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590920"/>
          <a:ext cx="8153640" cy="3962160"/>
        </p:xfrm>
        <a:graphic>
          <a:graphicData uri="http://schemas.openxmlformats.org/drawingml/2006/table">
            <a:tbl>
              <a:tblPr/>
              <a:tblGrid>
                <a:gridCol w="1295640"/>
                <a:gridCol w="6858000"/>
              </a:tblGrid>
              <a:tr h="3962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§110.34.b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ading/Comprehension of Literary Text/Theme 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nd Genre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udents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analyz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 make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ference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and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draw</a:t>
                      </a: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conclusion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about theme and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genre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 different cultural, historical, and contemporary contexts and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provide evidenc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)  relate the characters, setting, and theme of a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terary work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historical, social, and economic idea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f its time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nton Inquiry 4 Lifelong Learning Wik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936720" y="4495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dentoninquiry4lifelonglearning.wikispaces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819520" y="236232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950760" y="97164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LA-R TEKS Alignment Wik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914400" y="40384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eksalign.pbworks.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3270240" y="2427120"/>
            <a:ext cx="28954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udging Toward Inqui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524240" cy="1995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12784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the Public Libr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762120" y="2362320"/>
            <a:ext cx="83818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age your Homeschool Popu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a topic they already intend to study and work with the parents on how the library can hel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a meeting time that is best for them and work in a group setting on a weekly bas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ite parents and siblings to a program where the students share their wor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e the process with the students at your last meeting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1066680" y="117144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219320" y="251460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y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r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niel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yLa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800600" y="1252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the Academic Libr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914400" y="26668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king with stud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king with facult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762120" y="76032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Library Education</a:t>
            </a:r>
            <a:br>
              <a:rPr sz="36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xas Woman’s Univers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762120" y="2362320"/>
            <a:ext cx="83818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S5443: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brarians as Instructional Partn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work in partners to conduct an inquiry into various inquiry and research model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velop Web 2.0 presentations to persuade an audience to teach and apply the model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 on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DI4LL Wiki Vocabulary Pa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762120" y="74304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Library Educa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iversity of North Texa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762120" y="2362320"/>
            <a:ext cx="80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duct an 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student achievement  (TEKS, STA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pare a collaborative school library 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advance achievement through guided inqui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 that can be tie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ate standard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 that clearly identifies the role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brari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 role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assroom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for Grant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181160" y="2514600"/>
            <a:ext cx="6832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 from the Pane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Our Shared Valu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133720" y="28954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dle from the Participants’ Car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77880" y="1219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5486400" y="4724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 and (Some) Answer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1905120" y="28954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rom the Participa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2003400" y="2413080"/>
            <a:ext cx="4930920" cy="3271680"/>
          </a:xfrm>
          <a:prstGeom prst="rect">
            <a:avLst/>
          </a:prstGeom>
          <a:ln w="25560">
            <a:solidFill>
              <a:srgbClr val="33cccc"/>
            </a:solidFill>
            <a:miter/>
          </a:ln>
        </p:spPr>
      </p:pic>
      <p:sp>
        <p:nvSpPr>
          <p:cNvPr id="185" name="TextBox 2"/>
          <p:cNvSpPr/>
          <p:nvPr/>
        </p:nvSpPr>
        <p:spPr>
          <a:xfrm>
            <a:off x="914400" y="601992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"Innovation Lightbulb." Digital Image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. Department of Health and Human Services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 Retrieved from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www.hhs.gov/open/initiatives/innovationfellow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71680" y="114480"/>
            <a:ext cx="8228520" cy="5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3120" y="761760"/>
            <a:ext cx="8080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habha, H. K. (199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location of cultu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New York: Routled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rst, Anna. “Lone star.” Digital Image. Used with permiss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Innovation Lightbulb." Digital Image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. Department of Health and Human Servic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Retrieved from http://www.hhs.gov/open/initiatives/innovationfellows/index.htm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 (199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aching the research proces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 New York: The Center for Applied Research in Education,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Scarecrow Pres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 (200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eeking meaning: A process approach to library and information scien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, Maniotes, L. K., &amp; Caspari, A. K. (2012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uided inquiry: Learning in the 21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09560" y="633240"/>
            <a:ext cx="8138520" cy="33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2280" y="11430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kes, R. D. (2011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atlas of new librarianshi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Cambridge, MA: The MIT Pres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iotes, L. K.  (2005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transformative power of literary third spa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Unpublished Dissertation, University of Colorado, Boul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mith, E. G. (2001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rieved from https://www.tsl.state.tx.us/ld/pubs/schlibsurvey/index.htm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lters, T., &amp; Skinner, K. (2011). New roles for new times: Digital curation for preservation.  Washington, D.C.: Association of Research Libraries, Retrieved from http://www.arl.org/bm~doc/nrnt_digital_curation17mar11.pd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rd clouds. Created at Wordle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uda, A., &amp; Harada, V. H. Harada. (2008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brarians as learning specialists: Meeting the imperative for the 21st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Elementary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Middle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Public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High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Community College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University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2:20:15Z</dcterms:created>
  <dc:creator>Judi Moreillon</dc:creator>
  <dc:description/>
  <dc:language>en-US</dc:language>
  <cp:lastModifiedBy>Judi Moreillon</cp:lastModifiedBy>
  <dcterms:modified xsi:type="dcterms:W3CDTF">2013-04-25T01:27:18Z</dcterms:modified>
  <cp:revision>787</cp:revision>
  <dc:subject/>
  <dc:title>TLA08</dc:title>
</cp:coreProperties>
</file>