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7A60C05-0AAD-4E51-9D17-6CABE574E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6635C38-7971-46E5-888A-9CB29205FFC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629AF1-973D-4204-A916-9150CF27EB8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FA6-4A99-4B0A-B55E-07D67758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C35-B247-4FEF-8592-A2A6191B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E9E-A871-4AE8-B4DB-75060444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F60-0BA1-45F5-9ED5-A02BA8E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577-1CA5-4426-A224-BF0C60CB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7F0-C3E7-47C4-BE29-95D6B6A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B536-DAE2-4D1F-9E68-16893C90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4512-0E99-4899-A2E0-967EC932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981-F560-469A-B4B4-4E03176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4CF6-0406-4AA2-8C35-F259D8B0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A1D-5A20-405A-A702-923F859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229-6BCE-4C5E-B3E0-3E2C62DD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7FC5-CD11-4C69-892E-A1CC5049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598-71BD-4250-A1D9-06A21B6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3963-20EA-4615-833D-E65B34A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588A-2038-4AB3-8EF5-09D586C4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8720-DA9D-4E18-80E2-FFF60094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038-8F50-4FCF-A830-D6E9E2B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11E-3B8F-40E9-92E8-A256E014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0CC-C707-43C2-8599-1008C3A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928-9D47-418C-A725-B24E934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A36-AB33-4D20-A514-B66128C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515-47F6-41E1-83BB-3DCD8F9D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340-E584-4639-A041-9F973ED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A751-93D1-41AD-9126-EAC7796BFC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E1EF-4C5F-43B3-B7DD-E390CE80917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ibweb.mansfield.edu//upload/kachel/ClassChart.pdf" TargetMode="External"/><Relationship Id="rId2" Type="http://schemas.openxmlformats.org/officeDocument/2006/relationships/hyperlink" Target="http://libweb.mansfield.edu//upload/kachel/ClassChart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54560" y="152280"/>
            <a:ext cx="2895840" cy="1284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8580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cted Resear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10400" y="62640"/>
            <a:ext cx="54831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Evidence 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the greatest impact   on student achievement when they practic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planning, coteaching, teaching ICT (information and communication technology), and providing inservice workshop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se are among the library predictors of students’ academic achievement on standardized tests, particularly in reading and language ar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chterman 2008, 62-65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a collaborative school culture, teachers report that the school library con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bstantial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st-effective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ands-on professional development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rough the cooperative design of learning experienc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instructional expertise; and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63040" y="595800"/>
            <a:ext cx="53308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school library offers a learning environment that is based on a “complex model of teaching and learning of teaching and learning that is exploratory and highly motivational”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odd, Gordon, and Lu 2012, xxii-xxi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 correlate a successful educational program with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ctiv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ve,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ful library program (Lance et. al. 2010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-16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s who support collaborative efforts amongst classroom teachers and school librarians acknowledge the results of these efforts are demonstrated in academic achievement and increased scores on standardized 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collaborative school culture, principa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orse a whole school, 21 century learning environment where educators model collaboration for students as they collaborat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a culture of innovation, risk taking, and high expectations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knowledge the actions school librarians take to shape a school culture of deep learning” (Todd, Gordon, and Lu 2012, xx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and Skinner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read your take-home issue o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chool Library Monthl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 developing strategies for incorporating evidence-based practice into classroom-library and other collaborative planning and coteaching situ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end of this presentation, you will be abl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research related to the inquiry process and to collaboration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benefits to students and educators  of teacher/faculty and librarian collaboration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he benefits of a K-20 perspective and strategy for lifelong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160" y="114480"/>
            <a:ext cx="876204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81240" y="60948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hterman, Doug. “Haves, Halves, and Have-nots: School Libraries and Student Achievement in California.” Dissertation,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ity of North Texas, 2008.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ton, Texa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 Digital Library. http://digital.library.unt.edu/ark:/67531/metadc9800/m1/1/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omi K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, 1985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, 200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, Leslie K. Maniotes, and Ann K. Caspari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ce, Keith C., Marcia J. Rodney, and Bill Schwarz. “The Impact of School Libraries on Academic Achievement: A Research Study Based on Responses from Administrators in Idaho.”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Monthl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6, no. 9 (2010): 14-1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Research Service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Impact Stud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http://lrs.org/impact.php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3760" y="-166320"/>
            <a:ext cx="8790840" cy="3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81240" y="45720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eslie K. “The Transformative Power of Literary Third Space.” Dissertation, University of Colorado, Boulder, 200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ster G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. https://www.tsl.state.tx.us/ld/pubs/schlibsurvey/index.html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dd, Ross J., Carol A. Gordon, and Ya-Ling Lu. “Clone the School Librarian”: Evidence of the Role of the School Librarian in Professional Development. In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rowing Schools: Librarians as Professional Develope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eds. D. Abilock, K. Fontichiaro, and V. Harada. (xxi-xxiii). Santa Barbara, CA: Libraries Unlimited, 2012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yler, and Katharine Skinner. “New Roles for New Times: Digital Curation for Preservation.”  Washington, D.C.: Association of Research Libraries, 2011. http://www.arl.org/bm~doc/nrnt_digital_curation17mar11.pdf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llison, and Violet H. Harada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SP and Guided Inquiry Design Framewor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 - Op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 - Imm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 - Expl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 - Identif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 - Ga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 – Create and Sh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– Evaluate and Ref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7, 29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 1994, Maniotes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earch in eighteen states and one Canadian province shows that well-funded, professionally-staffed school library programs based on classroom-library collaboration correlate positively with student achievement, particularly in readin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ibrary Research Service 2012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ry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libweb.mansfield.edu/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upload/kachel/ClassChart.p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8520" indent="-308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Texas study,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howed that collaboration between school librarians and classroom teachers and school librarians who provide instruction to students and inservices for teachers have a positive correlation with student achievement </a:t>
            </a:r>
            <a:br>
              <a:rPr sz="32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mith 2001)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2-10-08T02:59:10Z</dcterms:modified>
  <cp:revision>734</cp:revision>
  <dc:subject/>
  <dc:title>TLA08</dc:title>
</cp:coreProperties>
</file>