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C347254-5A9D-4A65-B8AB-9DD980765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C2D78AD-5F22-49C5-8C5D-B5F7C3314AF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16B371E-9753-4224-8E57-365AE50A2F2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E63-DC2F-41E9-94CE-3B367FDE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033-180D-47BC-961A-5B25411C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24D-DE48-4EF6-B123-50D02EAB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1FB-D471-4D36-A9A7-F76FE85A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E77E-1D02-4EE1-9151-8F5D5AE0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EF63-E0ED-4569-B84A-B982B204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90F2-D5DA-46FC-9EF3-A9AFA8E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DE48-3213-479A-858B-1A91B48A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A7BA-7336-4877-8B76-42B6C321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BE7F-42A9-4DBA-94DA-CE3573FB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885F-7E7A-49F9-BD41-16BEFEB6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34A-56C8-4EC4-85D1-C5A2CF7E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A49E-28E7-4A8E-9EE4-487DC3A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C17C-964F-4971-8A24-0802ED77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E008-CCAC-4E44-B79A-798CB17A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5688-33EC-4E7E-A7D6-BECF0C88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0B8E-3EE9-4721-9897-F593F6E4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B1C-49A5-44EE-AFE6-546CA1A4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43E-067C-4438-8D06-E6A2AA25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4ED-F0CA-4A2C-82CC-B091BF33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094-C4D3-4C0D-ACA7-EC597F74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CD99-01F2-4660-B7AA-D22974E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50E-0A74-4251-9ED2-96D87F1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350-1433-4D67-90E4-4DBBF156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6015-DDD7-495A-B866-A045CABC493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3D40-9A99-4201-B863-49DF21680AC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ibweb.mansfield.edu//upload/kachel/ClassChart.pdf" TargetMode="External"/><Relationship Id="rId2" Type="http://schemas.openxmlformats.org/officeDocument/2006/relationships/hyperlink" Target="http://libweb.mansfield.edu//upload/kachel/ClassChart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54560" y="152280"/>
            <a:ext cx="2895840" cy="1284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8580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cted Resear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10400" y="62640"/>
            <a:ext cx="54831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Evidence 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librarians have the greatest impact   on student achievement when they practic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planning, coteaching, teaching ICT (information and communication technology), and providing inservice workshop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se are among the library predictors of students’ academic achievement on standardized tests, particularly in reading and language ar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chterman 2008, 62-65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a collaborative school culture, teachers report that the school library con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bstantial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st-effective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ands-on professional development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rough the cooperative design of learning experience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librarians have instructional expertise; and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63040" y="595800"/>
            <a:ext cx="53308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school library offers a learning environment that is based on a “complex model of teaching and learning of teaching and learning that is exploratory and highly motivational”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Todd, Gordon, and Lu 2012, xxii-xxii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ors correlate a successful educational program with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ctiv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ve,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ful library program (Lance et. al. 2010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-16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cipals who support collaborative efforts amongst classroom teachers and school librarians acknowledge the results of these efforts are demonstrated in academic achievement and increased scores on standardized 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collaborative school culture, principa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dorse a whole school, 21 century learning environment where educators model collaboration for students as they collaborat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a culture of innovation, risk taking, and high expectations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knowledge the actions school librarians take to shape a school culture of deep learning” (Todd, Gordon, and Lu 2012, xxi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and Skinner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read your take-home issue of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chool Library Monthl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 developing strategies for incorporating evidence-based practice into classroom-library and other collaborative planning and coteaching situ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he end of this presentation, you will be abl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te the research related to the inquiry process and to collaboration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te the benefits to students and educators  of teacher/faculty and librarian collaboration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the benefits of a K-20 perspective and strategy for lifelong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160" y="114480"/>
            <a:ext cx="876204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81240" y="60948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hterman, Doug. “Haves, Halves, and Have-nots: School Libraries and Student Achievement in California.” Dissertation,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ity of North Texas, 2008.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ton, Texas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 Digital Library. http://digital.library.unt.edu/ark:/67531/metadc9800/m1/1/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omi K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, 199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, 1985, 199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, 200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, Leslie K. Maniotes, and Ann K. Caspari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, 200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ce, Keith C., Marcia J. Rodney, and Bill Schwarz. “The Impact of School Libraries on Academic Achievement: A Research Study Based on Responses from Administrators in Idaho.”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chool Library Monthly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6, no. 9 (2010): 14-1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Research Service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chool Library Impact Studi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http://lrs.org/impact.php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3760" y="-166320"/>
            <a:ext cx="8790840" cy="3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81240" y="45720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eslie K. “The Transformative Power of Literary Third Space.” Dissertation, University of Colorado, Boulder, 200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ster G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. https://www.tsl.state.tx.us/ld/pubs/schlibsurvey/index.html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dd, Ross J., Carol A. Gordon, and Ya-Ling Lu. “Clone the School Librarian”: Evidence of the Role of the School Librarian in Professional Development. In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rowing Schools: Librarians as Professional Developer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eds. D. Abilock, K. Fontichiaro, and V. Harada. (xxi-xxiii). Santa Barbara, CA: Libraries Unlimited, 2012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yler, and Katharine Skinner. “New Roles for New Times: Digital Curation for Preservation.”  Washington, D.C.: Association of Research Libraries, 2011. http://www.arl.org/bm~doc/nrnt_digital_curation17mar11.pdf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llison, and Violet H. Harada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, 200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SP and Guided Inquiry Design Framewor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 - Op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 - Imm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 - Expl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 - Identif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 - Ga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 – Create and Sh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– Evaluate and Ref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2007, 29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 1994, Maniotes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71960" y="977040"/>
            <a:ext cx="525492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earch Evide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-27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search in eighteen states and one Canadian province shows that well-funded, professionally-staffed school library programs based on classroom-library collaboration correlate positively with student achievement, particularly in readin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Library Research Service 2012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-27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mary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libweb.mansfield.edu/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upload/kachel/ClassChart.pd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71960" y="977040"/>
            <a:ext cx="525492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earch Evide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8520" indent="-308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Texas study,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,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howed that collaboration between school librarians and classroom teachers and school librarians who provide instruction to students and inservices for teachers have a positive correlation with student achievement </a:t>
            </a:r>
            <a:br>
              <a:rPr sz="32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mith 2001)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2-10-08T02:59:10Z</dcterms:modified>
  <cp:revision>734</cp:revision>
  <dc:subject/>
  <dc:title>TLA08</dc:title>
</cp:coreProperties>
</file>