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872F599-BB68-4B2F-AAAF-003BD2BD8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65B70CA-52D0-4A6B-8426-5AACB909031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AA52052-7DAA-4FC1-B1A0-94F6F62DAB2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71A-F5EF-42CE-A3D2-6BC16178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1996-C6A2-4829-B4B1-C52EEC89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8554-A4AA-48CD-A099-D0DC0523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51A0-3FB6-4A93-8A3D-5644217E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7D63-5CE2-4D52-88CF-03B348CD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E755-2CBD-4C7B-858E-0498F716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C571-FC74-45E0-92DB-478D7368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93A8-6B98-46CC-B946-309CBB5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DC54-CAA0-4E30-B007-8F5E8F36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0EFB-1977-4AD7-9BDE-E9C210D7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AF73-5D6D-4E47-8EDE-F3DC55F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1FF-EB3C-4ED2-8B16-01091427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40EF-F4BF-4DD2-99FE-4B1D53A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2F8E-CAF7-4099-81CB-C87D1256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7E8A-B323-4BBF-8B5A-CF2B9103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9F57-3987-4963-9B3C-7769749F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EFA4-B695-43BE-BC13-870C5FAD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8E0-F64B-48F4-BF62-6EE1AE1E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24E-7738-421C-ADBA-09C2A1B7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2B4-CE5D-4948-9695-1AB9FF36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87F-BDF6-48A7-A87E-B1BB3EC2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E9E-9AB3-4EF1-AD32-DD76DE89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41F-55D1-4BA0-A352-47F1B5D9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AAF-ED98-47FC-B291-9C3996D7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C49A-AE73-4D44-944E-3875B2C01E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7238-38A1-441A-86A4-2D86AD9BD96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ibweb.mansfield.edu//upload/kachel/ClassChart.pdf" TargetMode="External"/><Relationship Id="rId2" Type="http://schemas.openxmlformats.org/officeDocument/2006/relationships/hyperlink" Target="http://libweb.mansfield.edu//upload/kachel/ClassChart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54560" y="152280"/>
            <a:ext cx="2895840" cy="1284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68580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lected Resear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10400" y="62640"/>
            <a:ext cx="54831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ore Evidence 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librarians have the greatest impact   on student achievement when they practice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planning, coteaching, teaching ICT (information and communication technology), and providing inservice workshop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se are among the library predictors of students’ academic achievement on standardized tests, particularly in reading and language arts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Achterman 2008, 62-65)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a collaborative school culture, teachers report that the school library conduc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ubstantial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ost-effective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ands-on professional development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rough the cooperative design of learning experiences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librarians have instructional expertise; and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63040" y="595800"/>
            <a:ext cx="533088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school library offers a learning environment that is based on a “complex model of teaching and learning of teaching and learning that is exploratory and highly motivational”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Todd, Gordon, and Lu 2012, xxii-xxii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ors correlate a successful educational program with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active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ve, an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ful library program (Lance et. al. 2010,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5-16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ncipals who support collaborative efforts amongst classroom teachers and school librarians acknowledge the results of these efforts are demonstrated in academic achievement and increased scores on standardized tes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63040" y="62640"/>
            <a:ext cx="533088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till more 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a collaborative school culture, principa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dorse a whole school, 21 century learning environment where educators model collaboration for students as they collaborat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courage a culture of innovation, risk taking, and high expectations 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knowledge the actions school librarians take to shape a school culture of deep learning” (Todd, Gordon, and Lu 2012, xxii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and Skinner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F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914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you read your take-home issue of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chool Library Monthly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 developing strategies for incorporating evidence-based practice into classroom-library and other collaborative planning and coteaching situa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he end of this presentation, you will be abl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te the research related to the inquiry process and to collaboration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te the benefits to students and educators  of teacher/faculty and librarian collaboration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the benefits of a K-20 perspective and strategy for lifelong lear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160" y="114480"/>
            <a:ext cx="876204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81240" y="60948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hterman, Doug. “Haves, Halves, and Have-nots: School Libraries and Student Achievement in California.” Dissertation,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ity of North Texas, 2008.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ton, Texas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T Digital Library. http://digital.library.unt.edu/ark:/67531/metadc9800/m1/1/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omi K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, 199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, 1985, 199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, 200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arol C., Leslie K. Maniotes, and Ann K. Caspari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, 200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ce, Keith C., Marcia J. Rodney, and Bill Schwarz. “The Impact of School Libraries on Academic Achievement: A Research Study Based on Responses from Administrators in Idaho.”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chool Library Monthly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6, no. 9 (2010): 14-17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brary Research Service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chool Library Impact Studi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http://lrs.org/impact.php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3760" y="-166320"/>
            <a:ext cx="8790840" cy="3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81240" y="457200"/>
            <a:ext cx="93726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eslie K. “The Transformative Power of Literary Third Space.” Dissertation, University of Colorado, Boulder, 2005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ster G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,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001. https://www.tsl.state.tx.us/ld/pubs/schlibsurvey/index.html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dd, Ross J., Carol A. Gordon, and Ya-Ling Lu. “Clone the School Librarian”: Evidence of the Role of the School Librarian in Professional Development. In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rowing Schools: Librarians as Professional Developer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eds. D. Abilock, K. Fontichiaro, and V. Harada. (xxi-xxiii). Santa Barbara, CA: Libraries Unlimited, 2012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yler, and Katharine Skinner. “New Roles for New Times: Digital Curation for Preservation.”  Washington, D.C.: Association of Research Libraries, 2011. http://www.arl.org/bm~doc/nrnt_digital_curation17mar11.pdf (accessed September 17, 2012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llison, and Violet H. Harada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, 200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SP and Guided Inquiry Design Framewor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 - Op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 - Imm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 - Expl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 - Identif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 - Ga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 – Create and Sha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 – Evaluate and Ref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2007, 29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 1994, Maniotes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71960" y="977040"/>
            <a:ext cx="525492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earch Evidenc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-27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Research in eighteen states and one Canadian province shows that well-funded, professionally-staffed school library programs based on classroom-library collaboration correlate positively with student achievement, particularly in reading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Library Research Service 2012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-2775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mmary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libweb.mansfield.edu//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upload/kachel/ClassChart.pd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71960" y="977040"/>
            <a:ext cx="525492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esearch Evidenc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8520" indent="-308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Texas study, </a:t>
            </a:r>
            <a:r>
              <a:rPr b="0" i="1" lang="en-US" sz="32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,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howed that collaboration between school librarians and classroom teachers and school librarians who provide instruction to students and inservices for teachers have a positive correlation with student achievement </a:t>
            </a:r>
            <a:br>
              <a:rPr sz="32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mith 2001)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2-10-08T02:59:10Z</dcterms:modified>
  <cp:revision>734</cp:revision>
  <dc:subject/>
  <dc:title>TLA08</dc:title>
</cp:coreProperties>
</file>