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C51613-2C11-4AFC-9619-88B477E5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A5FD8C1-820C-447F-BD2D-1C70588AACD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F2EEF3-BC34-42AE-BDC1-1027FFBEAF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AC4-D5CD-43BF-950D-15B44F21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6C6-E1EC-40EF-9199-C7278D9F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501-E3E7-4D06-909B-89638A23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198-51A0-4F66-8958-BF334133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A31-912A-4B76-A5B2-25C400B2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049F-2325-49E7-B783-78564EC7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AE2F-F8DC-4090-A563-8B77F4B0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5E5-6A5D-4394-B324-CE669231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CD1E-34AD-4CB3-8FEF-399DA30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68B-1D6E-4FD3-B40E-1D180C00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46A-1194-4D05-89DD-4EA2E59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AC8-2931-4742-934F-B9E3D90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59C9-8EE4-454D-AC3D-B404E04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792-DB14-4F83-99F1-10BD988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A25F-32F4-4209-89FB-D34715E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F7F-EF73-4A76-B245-4C4475F5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DAE-2A8E-4BB2-B6F1-7FEC10F7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0B4-6306-4E47-891A-9592651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7C4-AECF-4586-9634-C89F1A0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8C7-B185-42D1-ADC3-04287190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3D9-8364-4376-99E9-D9D9A8B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868-689A-4095-8185-20A2C09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165-456C-4D8C-8E3A-833B6CA2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ADA-0FFA-474D-8E0A-37FC70C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316C-753F-4274-80C9-D9D4C84A38B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51E-1BB7-4C45-BEE5-81EB826ECE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bweb.mansfield.edu//upload/kachel/ClassChart.pdf" TargetMode="External"/><Relationship Id="rId2" Type="http://schemas.openxmlformats.org/officeDocument/2006/relationships/hyperlink" Target="http://libweb.mansfield.edu//upload/kachel/ClassChart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54560" y="152280"/>
            <a:ext cx="2895840" cy="128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8580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cted 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10400" y="62640"/>
            <a:ext cx="54831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Evidence 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the greatest impact   on student achievement when they practic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planning, coteaching, teaching ICT (information and communication technology), and providing inservice workshop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se are among the library predictors of students’ academic achievement on standardized tests, particularly in reading and language ar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chterman 2008, 62-65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a collaborative school culture, teachers report that the school library con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bstantial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st-effective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s-on professional development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rough the cooperative design of learning experienc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instructional expertise; an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63040" y="595800"/>
            <a:ext cx="53308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school library offers a learning environment that is based on a “complex model of teaching and learning of teaching and learning that is exploratory and highly motivational”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odd, Gordon, and Lu 2012, xxii-xxi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 correlate a successful educational program with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ctiv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ve,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ful library program (Lance et. al. 2010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-16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s who support collaborative efforts amongst classroom teachers and school librarians acknowledge the results of these efforts are demonstrated in academic achievement and increased scores on standardized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collaborative school culture, princip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orse a whole school, 21 century learning environment where educators model collaboration for students as they collaborat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a culture of innovation, risk taking, and high expectation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knowledge the actions school librarians take to shape a school culture of deep learning” (Todd, Gordon, and Lu 2012, xx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and Skinner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read your take-home issue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chool Library Monthl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 developing strategies for incorporating evidence-based practice into classroom-library and other collaborative planning and coteaching situ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is presentation, you will be abl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research related to the inquiry process and to collaboration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benefits to students and educators  of teacher/faculty and librarian collaboration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benefits of a K-20 perspective and strategy for lifelong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160" y="114480"/>
            <a:ext cx="876204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8124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hterman, Doug. “Haves, Halves, and Have-nots: School Libraries and Student Achievement in California.” Dissertation,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ity of North Texas, 2008.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ton, Texa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 Digital Library. http://digital.library.unt.edu/ark:/67531/metadc9800/m1/1/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omi K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, 1985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, 200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, Leslie K. Maniotes, and Ann K. Caspari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ce, Keith C., Marcia J. Rodney, and Bill Schwarz. “The Impact of School Libraries on Academic Achievement: A Research Study Based on Responses from Administrators in Idaho.”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Month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6, no. 9 (2010): 14-1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Research Service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Impact Stud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http://lrs.org/impact.php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3760" y="-166320"/>
            <a:ext cx="8790840" cy="3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81240" y="45720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eslie K. “The Transformative Power of Literary Third Space.” Dissertation, University of Colorado, Boulder, 200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ster G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. https://www.tsl.state.tx.us/ld/pubs/schlibsurvey/index.html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dd, Ross J., Carol A. Gordon, and Ya-Ling Lu. “Clone the School Librarian”: Evidence of the Role of the School Librarian in Professional Development. I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rowing Schools: Librarians as Professional Develop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ds. D. Abilock, K. Fontichiaro, and V. Harada. (xxi-xxiii). Santa Barbara, CA: Libraries Unlimited, 2012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yler, and Katharine Skinner. “New Roles for New Times: Digital Curation for Preservation.”  Washington, D.C.: Association of Research Libraries, 2011. http://www.arl.org/bm~doc/nrnt_digital_curation17mar11.pdf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llison, and Violet H. Harada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SP and Guided Inquiry Design Framewor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 - O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 - Imm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 - Expl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 - Identif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 - Ga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 – Create and Sh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– Evaluate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7, 29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 1994, Maniotes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earch in eighteen states and one Canadian province shows that well-funded, professionally-staffed school library programs based on classroom-library collaboration correlate positively with student achievement, particularly in read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ibrary Research Service 2012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libweb.mansfield.edu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upload/kachel/ClassChart.p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Texas study,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howed that collaboration between school librarians and classroom teachers and school librarians who provide instruction to students and inservices for teachers have a positive correlation with student achievement 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mith 2001)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2-10-08T02:59:10Z</dcterms:modified>
  <cp:revision>734</cp:revision>
  <dc:subject/>
  <dc:title>TLA08</dc:title>
</cp:coreProperties>
</file>